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C7A4F-3391-4C51-90D2-9A9D247E6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F4FF3-37FD-4A23-A8BF-4182A7630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86D41-8779-49D7-BD8C-2E9C7FA91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2B475-B6A4-47BE-8A35-EC65C67AB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C56CE-C32A-4FC2-A4E1-2B1007787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97859-7BC8-4768-BBBC-25101F12E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48B23-C0F9-4B9D-AE99-879231D72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CC117-AF57-4EC7-8344-6DFAD72EC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A1082-853A-4011-9D68-719052D90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92A7B-C850-475A-AC79-551F9C4E4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6339B-C689-4EAD-B865-F5840B3A0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C9842-C25F-4CEA-B38E-667746A5A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8AE9-9504-4947-BB78-C10FAFE0AF9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268280"/>
            <a:ext cx="8458200" cy="187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Arial"/>
              </a:rPr>
              <a:t>福島第一原子力発電所の廃炉</a:t>
            </a:r>
            <a:br>
              <a:rPr sz="3600"/>
            </a:br>
            <a:r>
              <a:rPr b="0" lang="ja-JP" sz="3600" spc="-1" strike="noStrike">
                <a:solidFill>
                  <a:srgbClr val="0070c0"/>
                </a:solidFill>
                <a:latin typeface="Arial"/>
              </a:rPr>
              <a:t>における学会の役割</a:t>
            </a:r>
            <a:br>
              <a:rPr sz="4000"/>
            </a:br>
            <a:r>
              <a:rPr b="0" lang="ja-JP" sz="2800" spc="-1" strike="noStrike">
                <a:solidFill>
                  <a:srgbClr val="0070c0"/>
                </a:solidFill>
                <a:latin typeface="Arial"/>
              </a:rPr>
              <a:t>～廃止措置におけるリスク管理～</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332000" y="4076640"/>
            <a:ext cx="6400800" cy="16812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5</a:t>
            </a:r>
            <a:r>
              <a:rPr b="0" lang="ja-JP" sz="2400" spc="-1" strike="noStrike">
                <a:solidFill>
                  <a:srgbClr val="000000"/>
                </a:solidFill>
                <a:latin typeface="Arial"/>
              </a:rPr>
              <a:t>年</a:t>
            </a:r>
            <a:r>
              <a:rPr b="0" lang="en-US" sz="2400" spc="-1" strike="noStrike">
                <a:solidFill>
                  <a:srgbClr val="000000"/>
                </a:solidFill>
                <a:latin typeface="Arial"/>
              </a:rPr>
              <a:t>3</a:t>
            </a:r>
            <a:r>
              <a:rPr b="0" lang="ja-JP" sz="2400" spc="-1" strike="noStrike">
                <a:solidFill>
                  <a:srgbClr val="000000"/>
                </a:solidFill>
                <a:latin typeface="Arial"/>
              </a:rPr>
              <a:t>月</a:t>
            </a:r>
            <a:r>
              <a:rPr b="0" lang="en-US" sz="2400" spc="-1" strike="noStrike">
                <a:solidFill>
                  <a:srgbClr val="000000"/>
                </a:solidFill>
                <a:latin typeface="Arial"/>
              </a:rPr>
              <a:t>20</a:t>
            </a:r>
            <a:r>
              <a:rPr b="0" lang="ja-JP" sz="2400" spc="-1" strike="noStrike">
                <a:solidFill>
                  <a:srgbClr val="000000"/>
                </a:solidFill>
                <a:latin typeface="Arial"/>
              </a:rPr>
              <a:t>日</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廃炉検討委員会</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副委員長　岡本孝司</a:t>
            </a:r>
            <a:endParaRPr b="0" lang="en-US" sz="2400" spc="-1" strike="noStrike">
              <a:solidFill>
                <a:srgbClr val="000000"/>
              </a:solidFill>
              <a:latin typeface="Times New Roman"/>
            </a:endParaRPr>
          </a:p>
        </p:txBody>
      </p:sp>
      <p:sp>
        <p:nvSpPr>
          <p:cNvPr id="4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9484-8870-451F-8D88-F6DB826955C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図 1" descr=""/>
          <p:cNvPicPr/>
          <p:nvPr/>
        </p:nvPicPr>
        <p:blipFill>
          <a:blip r:embed="rId1"/>
          <a:srcRect l="12709" t="0" r="12902" b="0"/>
          <a:stretch/>
        </p:blipFill>
        <p:spPr>
          <a:xfrm>
            <a:off x="468360" y="260280"/>
            <a:ext cx="8064360" cy="6099120"/>
          </a:xfrm>
          <a:prstGeom prst="rect">
            <a:avLst/>
          </a:prstGeom>
          <a:ln w="0">
            <a:noFill/>
          </a:ln>
        </p:spPr>
      </p:pic>
      <p:sp>
        <p:nvSpPr>
          <p:cNvPr id="74" name="テキスト ボックス 2"/>
          <p:cNvSpPr/>
          <p:nvPr/>
        </p:nvSpPr>
        <p:spPr>
          <a:xfrm>
            <a:off x="3022200" y="6453360"/>
            <a:ext cx="1969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東京電力福島第一原子力発電所の廃止措置等に向けた中長期ロードマップの改定</a:t>
            </a:r>
            <a:r>
              <a:rPr b="0" lang="en-US" sz="1100" spc="-1" strike="noStrike">
                <a:solidFill>
                  <a:srgbClr val="000000"/>
                </a:solidFill>
                <a:latin typeface="Times New Roman"/>
              </a:rPr>
              <a:t>,</a:t>
            </a:r>
            <a:r>
              <a:rPr b="0" lang="ja-JP" sz="1100" spc="-1" strike="noStrike">
                <a:solidFill>
                  <a:srgbClr val="000000"/>
                </a:solidFill>
                <a:latin typeface="Times New Roman"/>
              </a:rPr>
              <a:t>　</a:t>
            </a:r>
            <a:r>
              <a:rPr b="0" lang="en-US" sz="1100" spc="-1" strike="noStrike">
                <a:solidFill>
                  <a:srgbClr val="000000"/>
                </a:solidFill>
                <a:latin typeface="Times New Roman"/>
              </a:rPr>
              <a:t>2013/7/22WS</a:t>
            </a:r>
            <a:r>
              <a:rPr b="0" lang="ja-JP" sz="1100" spc="-1" strike="noStrike">
                <a:solidFill>
                  <a:srgbClr val="000000"/>
                </a:solidFill>
                <a:latin typeface="Times New Roman"/>
              </a:rPr>
              <a:t>資料　を修正</a:t>
            </a:r>
            <a:endParaRPr b="0" lang="en-US" sz="1100" spc="-1" strike="noStrike">
              <a:solidFill>
                <a:srgbClr val="000000"/>
              </a:solidFill>
              <a:latin typeface="Times New Roman"/>
            </a:endParaRPr>
          </a:p>
        </p:txBody>
      </p:sp>
      <p:sp>
        <p:nvSpPr>
          <p:cNvPr id="75" name="正方形/長方形 1"/>
          <p:cNvSpPr/>
          <p:nvPr/>
        </p:nvSpPr>
        <p:spPr>
          <a:xfrm>
            <a:off x="1332000" y="4890960"/>
            <a:ext cx="6337080" cy="1346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下矢印 2"/>
          <p:cNvSpPr/>
          <p:nvPr/>
        </p:nvSpPr>
        <p:spPr>
          <a:xfrm flipV="1">
            <a:off x="3708360" y="4916520"/>
            <a:ext cx="576360" cy="698400"/>
          </a:xfrm>
          <a:prstGeom prst="downArrow">
            <a:avLst>
              <a:gd name="adj1" fmla="val 50000"/>
              <a:gd name="adj2" fmla="val 49984"/>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テキスト ボックス 3"/>
          <p:cNvSpPr/>
          <p:nvPr/>
        </p:nvSpPr>
        <p:spPr>
          <a:xfrm>
            <a:off x="3754080" y="5614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a:t>
            </a:r>
            <a:endParaRPr b="0" lang="en-US" sz="2400" spc="-1" strike="noStrike">
              <a:solidFill>
                <a:srgbClr val="000000"/>
              </a:solidFill>
              <a:latin typeface="Times New Roman"/>
            </a:endParaRPr>
          </a:p>
        </p:txBody>
      </p:sp>
      <p:sp>
        <p:nvSpPr>
          <p:cNvPr id="78" name="スライド番号プレースホルダー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A749-02B4-41B1-AA0B-4FDDF26D25C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図 1" descr=""/>
          <p:cNvPicPr/>
          <p:nvPr/>
        </p:nvPicPr>
        <p:blipFill>
          <a:blip r:embed="rId1"/>
          <a:stretch/>
        </p:blipFill>
        <p:spPr>
          <a:xfrm>
            <a:off x="152280" y="3573360"/>
            <a:ext cx="8877600" cy="2592360"/>
          </a:xfrm>
          <a:prstGeom prst="rect">
            <a:avLst/>
          </a:prstGeom>
          <a:ln w="0">
            <a:noFill/>
          </a:ln>
        </p:spPr>
      </p:pic>
      <p:sp>
        <p:nvSpPr>
          <p:cNvPr id="80" name="正方形/長方形 2"/>
          <p:cNvSpPr/>
          <p:nvPr/>
        </p:nvSpPr>
        <p:spPr>
          <a:xfrm>
            <a:off x="3276720" y="6475320"/>
            <a:ext cx="57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rPr>
              <a:t>http://www.tepco.co.jp/nu/fukushima-np/roadmap/images/d141225_05-j.pdf</a:t>
            </a:r>
            <a:endParaRPr b="0" lang="en-US" sz="1600" spc="-1" strike="noStrike">
              <a:solidFill>
                <a:srgbClr val="000000"/>
              </a:solidFill>
              <a:latin typeface="Times New Roman"/>
            </a:endParaRPr>
          </a:p>
        </p:txBody>
      </p:sp>
      <p:sp>
        <p:nvSpPr>
          <p:cNvPr id="81" name="テキスト ボックス 3"/>
          <p:cNvSpPr/>
          <p:nvPr/>
        </p:nvSpPr>
        <p:spPr>
          <a:xfrm>
            <a:off x="5024520" y="6186600"/>
            <a:ext cx="168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4</a:t>
            </a:r>
            <a:r>
              <a:rPr b="0" lang="ja-JP" sz="1600" spc="-1" strike="noStrike">
                <a:solidFill>
                  <a:srgbClr val="000000"/>
                </a:solidFill>
                <a:latin typeface="Times New Roman"/>
              </a:rPr>
              <a:t>年</a:t>
            </a:r>
            <a:r>
              <a:rPr b="0" lang="en-US" sz="1600" spc="-1" strike="noStrike">
                <a:solidFill>
                  <a:srgbClr val="000000"/>
                </a:solidFill>
                <a:latin typeface="Times New Roman"/>
              </a:rPr>
              <a:t>12</a:t>
            </a:r>
            <a:r>
              <a:rPr b="0" lang="ja-JP" sz="1600" spc="-1" strike="noStrike">
                <a:solidFill>
                  <a:srgbClr val="000000"/>
                </a:solidFill>
                <a:latin typeface="Times New Roman"/>
              </a:rPr>
              <a:t>月</a:t>
            </a:r>
            <a:r>
              <a:rPr b="0" lang="en-US" sz="1600" spc="-1" strike="noStrike">
                <a:solidFill>
                  <a:srgbClr val="000000"/>
                </a:solidFill>
                <a:latin typeface="Times New Roman"/>
              </a:rPr>
              <a:t>25</a:t>
            </a:r>
            <a:r>
              <a:rPr b="0" lang="ja-JP" sz="1600" spc="-1" strike="noStrike">
                <a:solidFill>
                  <a:srgbClr val="000000"/>
                </a:solidFill>
                <a:latin typeface="Times New Roman"/>
              </a:rPr>
              <a:t>日廃炉・汚染水対策チーム会合資料より</a:t>
            </a:r>
            <a:endParaRPr b="0" lang="en-US" sz="1600" spc="-1" strike="noStrike">
              <a:solidFill>
                <a:srgbClr val="000000"/>
              </a:solidFill>
              <a:latin typeface="Times New Roman"/>
            </a:endParaRPr>
          </a:p>
        </p:txBody>
      </p:sp>
      <p:sp>
        <p:nvSpPr>
          <p:cNvPr id="82" name="テキスト ボックス 4"/>
          <p:cNvSpPr/>
          <p:nvPr/>
        </p:nvSpPr>
        <p:spPr>
          <a:xfrm>
            <a:off x="3394800" y="25416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70c0"/>
                </a:solidFill>
                <a:uFillTx/>
                <a:latin typeface="Times New Roman"/>
              </a:rPr>
              <a:t>ロードマップの進捗状況</a:t>
            </a:r>
            <a:endParaRPr b="0" lang="en-US" sz="2800" spc="-1" strike="noStrike">
              <a:solidFill>
                <a:srgbClr val="000000"/>
              </a:solidFill>
              <a:latin typeface="Times New Roman"/>
            </a:endParaRPr>
          </a:p>
        </p:txBody>
      </p:sp>
      <p:sp>
        <p:nvSpPr>
          <p:cNvPr id="83" name="正方形/長方形 5"/>
          <p:cNvSpPr/>
          <p:nvPr/>
        </p:nvSpPr>
        <p:spPr>
          <a:xfrm>
            <a:off x="6761160" y="2577960"/>
            <a:ext cx="222084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3"/>
          <p:cNvSpPr/>
          <p:nvPr/>
        </p:nvSpPr>
        <p:spPr>
          <a:xfrm>
            <a:off x="468360" y="880920"/>
            <a:ext cx="8381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ラントの安定状態維持・継続</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発電所全体の放射線量低減・汚染拡大防止</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使用済燃料プールからの燃料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デブリ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炉施設の解体、放射性廃棄物処理・処分</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第３期</a:t>
            </a:r>
            <a:r>
              <a:rPr b="0" lang="ja-JP" sz="2000" spc="-1" strike="noStrike">
                <a:solidFill>
                  <a:srgbClr val="000000"/>
                </a:solidFill>
                <a:latin typeface="Times New Roman"/>
              </a:rPr>
              <a:t>(10</a:t>
            </a:r>
            <a:r>
              <a:rPr b="0" lang="ja-JP" sz="2000" spc="-1" strike="noStrike">
                <a:solidFill>
                  <a:srgbClr val="000000"/>
                </a:solidFill>
                <a:latin typeface="Times New Roman"/>
              </a:rPr>
              <a:t>～</a:t>
            </a:r>
            <a:r>
              <a:rPr b="0" lang="ja-JP" sz="2000" spc="-1" strike="noStrike">
                <a:solidFill>
                  <a:srgbClr val="000000"/>
                </a:solidFill>
                <a:latin typeface="Times New Roman"/>
              </a:rPr>
              <a:t>40</a:t>
            </a:r>
            <a:r>
              <a:rPr b="0" lang="ja-JP" sz="2000" spc="-1" strike="noStrike">
                <a:solidFill>
                  <a:srgbClr val="000000"/>
                </a:solidFill>
                <a:latin typeface="Times New Roman"/>
              </a:rPr>
              <a:t>年後</a:t>
            </a:r>
            <a:r>
              <a:rPr b="0" lang="ja-JP" sz="2000" spc="-1" strike="noStrike">
                <a:solidFill>
                  <a:srgbClr val="000000"/>
                </a:solidFill>
                <a:latin typeface="Times New Roman"/>
              </a:rPr>
              <a:t>)</a:t>
            </a:r>
            <a:r>
              <a:rPr b="0" lang="ja-JP" sz="2000" spc="-1" strike="noStrike">
                <a:solidFill>
                  <a:srgbClr val="000000"/>
                </a:solidFill>
                <a:latin typeface="Times New Roman"/>
              </a:rPr>
              <a:t>に実施</a:t>
            </a:r>
            <a:endParaRPr b="0" lang="en-US" sz="2000" spc="-1" strike="noStrike">
              <a:solidFill>
                <a:srgbClr val="000000"/>
              </a:solidFill>
              <a:latin typeface="Times New Roman"/>
            </a:endParaRPr>
          </a:p>
        </p:txBody>
      </p:sp>
      <p:sp>
        <p:nvSpPr>
          <p:cNvPr id="8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8385-EEDA-4B81-984F-C187013CB14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図 1" descr=""/>
          <p:cNvPicPr/>
          <p:nvPr/>
        </p:nvPicPr>
        <p:blipFill>
          <a:blip r:embed="rId1"/>
          <a:stretch/>
        </p:blipFill>
        <p:spPr>
          <a:xfrm>
            <a:off x="198360" y="115920"/>
            <a:ext cx="8550360" cy="6408720"/>
          </a:xfrm>
          <a:prstGeom prst="rect">
            <a:avLst/>
          </a:prstGeom>
          <a:ln w="0">
            <a:noFill/>
          </a:ln>
        </p:spPr>
      </p:pic>
      <p:sp>
        <p:nvSpPr>
          <p:cNvPr id="87" name="正方形/長方形 2"/>
          <p:cNvSpPr/>
          <p:nvPr/>
        </p:nvSpPr>
        <p:spPr>
          <a:xfrm>
            <a:off x="6024600" y="637236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http://irid.or.jp/_pdf/20141205.pdf</a:t>
            </a:r>
            <a:endParaRPr b="0" lang="en-US" sz="1800" spc="-1" strike="noStrike">
              <a:solidFill>
                <a:srgbClr val="000000"/>
              </a:solidFill>
              <a:latin typeface="Times New Roman"/>
            </a:endParaRPr>
          </a:p>
        </p:txBody>
      </p:sp>
      <p:sp>
        <p:nvSpPr>
          <p:cNvPr id="88" name="テキスト ボックス 3"/>
          <p:cNvSpPr/>
          <p:nvPr/>
        </p:nvSpPr>
        <p:spPr>
          <a:xfrm>
            <a:off x="1402200" y="6381720"/>
            <a:ext cx="33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いわき経済同友会</a:t>
            </a:r>
            <a:r>
              <a:rPr b="0" lang="en-US" sz="1800" spc="-1" strike="noStrike">
                <a:solidFill>
                  <a:srgbClr val="000000"/>
                </a:solidFill>
                <a:latin typeface="Times New Roman"/>
              </a:rPr>
              <a:t>12</a:t>
            </a:r>
            <a:r>
              <a:rPr b="0" lang="ja-JP" sz="1800" spc="-1" strike="noStrike">
                <a:solidFill>
                  <a:srgbClr val="000000"/>
                </a:solidFill>
                <a:latin typeface="Times New Roman"/>
              </a:rPr>
              <a:t>月公開例会、</a:t>
            </a:r>
            <a:r>
              <a:rPr b="0" lang="en-US" sz="1800" spc="-1" strike="noStrike">
                <a:solidFill>
                  <a:srgbClr val="000000"/>
                </a:solidFill>
                <a:latin typeface="Times New Roman"/>
              </a:rPr>
              <a:t>IRID</a:t>
            </a:r>
            <a:r>
              <a:rPr b="0" lang="ja-JP" sz="1800" spc="-1" strike="noStrike">
                <a:solidFill>
                  <a:srgbClr val="000000"/>
                </a:solidFill>
                <a:latin typeface="Times New Roman"/>
              </a:rPr>
              <a:t>及川理事講演資料</a:t>
            </a:r>
            <a:endParaRPr b="0" lang="en-US" sz="1800" spc="-1" strike="noStrike">
              <a:solidFill>
                <a:srgbClr val="000000"/>
              </a:solidFill>
              <a:latin typeface="Times New Roman"/>
            </a:endParaRPr>
          </a:p>
        </p:txBody>
      </p:sp>
      <p:sp>
        <p:nvSpPr>
          <p:cNvPr id="8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F42A-1B75-442A-B205-5A0878E40A1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炉に向けたリスク管理</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廃止措置との大きな違い</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時間との戦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高放射線環境下の作業</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既設設備がほとんど利用できな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大量の放射性廃棄物</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p:txBody>
      </p:sp>
      <p:sp>
        <p:nvSpPr>
          <p:cNvPr id="9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62B64-7013-4FE7-8C16-1303387D796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時間との戦い</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汚染水のリスクは相対的に高くな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などの崩壊やタンクの損傷リス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軸を考えた総合的なリスク低減</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燃料が最もリスクが高い</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定状態（冷却・水素・臨界）にあるのか不明</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つ不安定になってもおかしくない状況</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棄物</a:t>
            </a:r>
            <a:r>
              <a:rPr b="0" lang="en-US" sz="2800" spc="-1" strike="noStrike">
                <a:solidFill>
                  <a:srgbClr val="000000"/>
                </a:solidFill>
                <a:latin typeface="Times New Roman"/>
              </a:rPr>
              <a:t>(</a:t>
            </a:r>
            <a:r>
              <a:rPr b="0" lang="ja-JP" sz="2800" spc="-1" strike="noStrike">
                <a:solidFill>
                  <a:srgbClr val="000000"/>
                </a:solidFill>
                <a:latin typeface="Times New Roman"/>
              </a:rPr>
              <a:t>水を含む</a:t>
            </a:r>
            <a:r>
              <a:rPr b="0" lang="en-US" sz="2800" spc="-1" strike="noStrike">
                <a:solidFill>
                  <a:srgbClr val="000000"/>
                </a:solidFill>
                <a:latin typeface="Times New Roman"/>
              </a:rPr>
              <a:t>)</a:t>
            </a:r>
            <a:r>
              <a:rPr b="0" lang="ja-JP" sz="2800" spc="-1" strike="noStrike">
                <a:solidFill>
                  <a:srgbClr val="000000"/>
                </a:solidFill>
                <a:latin typeface="Times New Roman"/>
              </a:rPr>
              <a:t>のリスク制御</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まだ時間はあるが、余裕はあまりない</a:t>
            </a:r>
            <a:endParaRPr b="0" lang="en-US" sz="2400" spc="-1" strike="noStrike">
              <a:solidFill>
                <a:srgbClr val="000000"/>
              </a:solidFill>
              <a:latin typeface="Times New Roman"/>
            </a:endParaRPr>
          </a:p>
        </p:txBody>
      </p:sp>
      <p:sp>
        <p:nvSpPr>
          <p:cNvPr id="9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26CB-6D3A-43F6-8B53-9751D4D6ED4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002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止措置のあり方</a:t>
            </a:r>
            <a:endParaRPr b="0" lang="en-US" sz="4400" spc="-1" strike="noStrike">
              <a:solidFill>
                <a:srgbClr val="000000"/>
              </a:solidFill>
              <a:latin typeface="Times New Roman"/>
            </a:endParaRPr>
          </a:p>
        </p:txBody>
      </p:sp>
      <p:sp>
        <p:nvSpPr>
          <p:cNvPr id="97" name=""/>
          <p:cNvSpPr txBox="1"/>
          <p:nvPr/>
        </p:nvSpPr>
        <p:spPr>
          <a:xfrm>
            <a:off x="685800" y="15573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を考慮した適切なリスク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の前の対策ではなく、５年を見た対策</a:t>
            </a:r>
            <a:endParaRPr b="0" lang="en-US" sz="3200" spc="-1" strike="noStrike">
              <a:solidFill>
                <a:srgbClr val="000000"/>
              </a:solidFill>
              <a:latin typeface="Times New Roman"/>
            </a:endParaRPr>
          </a:p>
        </p:txBody>
      </p:sp>
      <p:cxnSp>
        <p:nvCxnSpPr>
          <p:cNvPr id="98" name="直線矢印コネクタ 4"/>
          <p:cNvCxnSpPr/>
          <p:nvPr/>
        </p:nvCxnSpPr>
        <p:spPr>
          <a:xfrm>
            <a:off x="1115640" y="6021000"/>
            <a:ext cx="7342920" cy="1080"/>
          </a:xfrm>
          <a:prstGeom prst="straightConnector1">
            <a:avLst/>
          </a:prstGeom>
          <a:ln w="6480">
            <a:solidFill>
              <a:srgbClr val="000000"/>
            </a:solidFill>
            <a:miter/>
            <a:tailEnd len="med" type="triangle" w="med"/>
          </a:ln>
        </p:spPr>
      </p:cxnSp>
      <p:cxnSp>
        <p:nvCxnSpPr>
          <p:cNvPr id="99" name="直線矢印コネクタ 6"/>
          <p:cNvCxnSpPr/>
          <p:nvPr/>
        </p:nvCxnSpPr>
        <p:spPr>
          <a:xfrm flipV="1">
            <a:off x="1115640" y="2997000"/>
            <a:ext cx="1080" cy="3024720"/>
          </a:xfrm>
          <a:prstGeom prst="straightConnector1">
            <a:avLst/>
          </a:prstGeom>
          <a:ln w="6480">
            <a:solidFill>
              <a:srgbClr val="000000"/>
            </a:solidFill>
            <a:miter/>
            <a:tailEnd len="med" type="triangle" w="med"/>
          </a:ln>
        </p:spPr>
      </p:cxnSp>
      <p:sp>
        <p:nvSpPr>
          <p:cNvPr id="100" name="フリーフォーム 7"/>
          <p:cNvSpPr/>
          <p:nvPr/>
        </p:nvSpPr>
        <p:spPr>
          <a:xfrm>
            <a:off x="1138320" y="3006720"/>
            <a:ext cx="3794040" cy="284472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フリーフォーム 8"/>
          <p:cNvSpPr/>
          <p:nvPr/>
        </p:nvSpPr>
        <p:spPr>
          <a:xfrm>
            <a:off x="1116000" y="3006720"/>
            <a:ext cx="5759640" cy="254628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フリーフォーム 11"/>
          <p:cNvSpPr/>
          <p:nvPr/>
        </p:nvSpPr>
        <p:spPr>
          <a:xfrm>
            <a:off x="1127160" y="2987640"/>
            <a:ext cx="6919920" cy="2997360"/>
          </a:xfrm>
          <a:custGeom>
            <a:avLst/>
            <a:gdLst/>
            <a:ahLst/>
            <a:rect l="l" t="t" r="r" b="b"/>
            <a:pathLst>
              <a:path w="6918960" h="2997200">
                <a:moveTo>
                  <a:pt x="0" y="2997200"/>
                </a:moveTo>
                <a:lnTo>
                  <a:pt x="447040" y="2976880"/>
                </a:lnTo>
                <a:cubicBezTo>
                  <a:pt x="470946" y="2975474"/>
                  <a:pt x="494423" y="2969885"/>
                  <a:pt x="518160" y="2966720"/>
                </a:cubicBezTo>
                <a:cubicBezTo>
                  <a:pt x="715115" y="2940459"/>
                  <a:pt x="491798" y="2971937"/>
                  <a:pt x="670560" y="2946400"/>
                </a:cubicBezTo>
                <a:cubicBezTo>
                  <a:pt x="755227" y="2949787"/>
                  <a:pt x="840154" y="2949112"/>
                  <a:pt x="924560" y="2956560"/>
                </a:cubicBezTo>
                <a:cubicBezTo>
                  <a:pt x="955663" y="2959304"/>
                  <a:pt x="984787" y="2976059"/>
                  <a:pt x="1016000" y="2976880"/>
                </a:cubicBezTo>
                <a:lnTo>
                  <a:pt x="1310640" y="2966720"/>
                </a:lnTo>
                <a:cubicBezTo>
                  <a:pt x="1509382" y="2941877"/>
                  <a:pt x="1275270" y="2966720"/>
                  <a:pt x="1666240" y="2966720"/>
                </a:cubicBezTo>
                <a:cubicBezTo>
                  <a:pt x="1998151" y="2966720"/>
                  <a:pt x="2330027" y="2959947"/>
                  <a:pt x="2661920" y="2956560"/>
                </a:cubicBezTo>
                <a:cubicBezTo>
                  <a:pt x="2984648" y="2875878"/>
                  <a:pt x="2564683" y="2977545"/>
                  <a:pt x="3556000" y="2936240"/>
                </a:cubicBezTo>
                <a:cubicBezTo>
                  <a:pt x="3596164" y="2934567"/>
                  <a:pt x="3699838" y="2896794"/>
                  <a:pt x="3749040" y="2885440"/>
                </a:cubicBezTo>
                <a:cubicBezTo>
                  <a:pt x="3769113" y="2880808"/>
                  <a:pt x="3789732" y="2878965"/>
                  <a:pt x="3810000" y="2875280"/>
                </a:cubicBezTo>
                <a:cubicBezTo>
                  <a:pt x="3826990" y="2872191"/>
                  <a:pt x="3843943" y="2868866"/>
                  <a:pt x="3860800" y="2865120"/>
                </a:cubicBezTo>
                <a:cubicBezTo>
                  <a:pt x="3874431" y="2862091"/>
                  <a:pt x="3887666" y="2857256"/>
                  <a:pt x="3901440" y="2854960"/>
                </a:cubicBezTo>
                <a:cubicBezTo>
                  <a:pt x="3928373" y="2850471"/>
                  <a:pt x="3955627" y="2848187"/>
                  <a:pt x="3982720" y="2844800"/>
                </a:cubicBezTo>
                <a:cubicBezTo>
                  <a:pt x="4115112" y="2756538"/>
                  <a:pt x="3969468" y="2845846"/>
                  <a:pt x="4368800" y="2814320"/>
                </a:cubicBezTo>
                <a:cubicBezTo>
                  <a:pt x="4380973" y="2813359"/>
                  <a:pt x="4387471" y="2797108"/>
                  <a:pt x="4399280" y="2794000"/>
                </a:cubicBezTo>
                <a:cubicBezTo>
                  <a:pt x="4452596" y="2779970"/>
                  <a:pt x="4508121" y="2775917"/>
                  <a:pt x="4561840" y="2763520"/>
                </a:cubicBezTo>
                <a:cubicBezTo>
                  <a:pt x="4596292" y="2755569"/>
                  <a:pt x="4629298" y="2742232"/>
                  <a:pt x="4663440" y="2733040"/>
                </a:cubicBezTo>
                <a:cubicBezTo>
                  <a:pt x="4717374" y="2718519"/>
                  <a:pt x="4773012" y="2710063"/>
                  <a:pt x="4826000" y="2692400"/>
                </a:cubicBezTo>
                <a:cubicBezTo>
                  <a:pt x="4853100" y="2683367"/>
                  <a:pt x="4896890" y="2667038"/>
                  <a:pt x="4927600" y="2661920"/>
                </a:cubicBezTo>
                <a:cubicBezTo>
                  <a:pt x="4954533" y="2657431"/>
                  <a:pt x="4981787" y="2655147"/>
                  <a:pt x="5008880" y="2651760"/>
                </a:cubicBezTo>
                <a:cubicBezTo>
                  <a:pt x="5019040" y="2644987"/>
                  <a:pt x="5029424" y="2638537"/>
                  <a:pt x="5039360" y="2631440"/>
                </a:cubicBezTo>
                <a:cubicBezTo>
                  <a:pt x="5053139" y="2621598"/>
                  <a:pt x="5065641" y="2609935"/>
                  <a:pt x="5080000" y="2600960"/>
                </a:cubicBezTo>
                <a:cubicBezTo>
                  <a:pt x="5208253" y="2520802"/>
                  <a:pt x="5037075" y="2712493"/>
                  <a:pt x="5334000" y="2448560"/>
                </a:cubicBezTo>
                <a:lnTo>
                  <a:pt x="5516880" y="2286000"/>
                </a:lnTo>
                <a:cubicBezTo>
                  <a:pt x="5543844" y="2262147"/>
                  <a:pt x="5572704" y="2240336"/>
                  <a:pt x="5598160" y="2214880"/>
                </a:cubicBezTo>
                <a:cubicBezTo>
                  <a:pt x="5642187" y="2170853"/>
                  <a:pt x="5681621" y="2121695"/>
                  <a:pt x="5730240" y="2082800"/>
                </a:cubicBezTo>
                <a:cubicBezTo>
                  <a:pt x="5747173" y="2069253"/>
                  <a:pt x="5764832" y="2056567"/>
                  <a:pt x="5781040" y="2042160"/>
                </a:cubicBezTo>
                <a:cubicBezTo>
                  <a:pt x="5838895" y="1990733"/>
                  <a:pt x="5798115" y="2009375"/>
                  <a:pt x="5852160" y="1991360"/>
                </a:cubicBezTo>
                <a:cubicBezTo>
                  <a:pt x="5869093" y="1977813"/>
                  <a:pt x="5885195" y="1963156"/>
                  <a:pt x="5902960" y="1950720"/>
                </a:cubicBezTo>
                <a:cubicBezTo>
                  <a:pt x="5919138" y="1939396"/>
                  <a:pt x="5938685" y="1932996"/>
                  <a:pt x="5953760" y="1920240"/>
                </a:cubicBezTo>
                <a:cubicBezTo>
                  <a:pt x="5983010" y="1895490"/>
                  <a:pt x="6007947" y="1866053"/>
                  <a:pt x="6035040" y="1838960"/>
                </a:cubicBezTo>
                <a:cubicBezTo>
                  <a:pt x="6051973" y="1822027"/>
                  <a:pt x="6070880" y="1806860"/>
                  <a:pt x="6085840" y="1788160"/>
                </a:cubicBezTo>
                <a:cubicBezTo>
                  <a:pt x="6099387" y="1771227"/>
                  <a:pt x="6113725" y="1754898"/>
                  <a:pt x="6126480" y="1737360"/>
                </a:cubicBezTo>
                <a:cubicBezTo>
                  <a:pt x="6170966" y="1676192"/>
                  <a:pt x="6159130" y="1679633"/>
                  <a:pt x="6207760" y="1625600"/>
                </a:cubicBezTo>
                <a:cubicBezTo>
                  <a:pt x="6223780" y="1607800"/>
                  <a:pt x="6240840" y="1590909"/>
                  <a:pt x="6258560" y="1574800"/>
                </a:cubicBezTo>
                <a:cubicBezTo>
                  <a:pt x="6276354" y="1558624"/>
                  <a:pt x="6330261" y="1518899"/>
                  <a:pt x="6350000" y="1493520"/>
                </a:cubicBezTo>
                <a:cubicBezTo>
                  <a:pt x="6364993" y="1474243"/>
                  <a:pt x="6378335" y="1453655"/>
                  <a:pt x="6390640" y="1432560"/>
                </a:cubicBezTo>
                <a:cubicBezTo>
                  <a:pt x="6453330" y="1325092"/>
                  <a:pt x="6393373" y="1416934"/>
                  <a:pt x="6441440" y="1320800"/>
                </a:cubicBezTo>
                <a:cubicBezTo>
                  <a:pt x="6492733" y="1218213"/>
                  <a:pt x="6453102" y="1317421"/>
                  <a:pt x="6492240" y="1229360"/>
                </a:cubicBezTo>
                <a:cubicBezTo>
                  <a:pt x="6523658" y="1158671"/>
                  <a:pt x="6502612" y="1201702"/>
                  <a:pt x="6522720" y="1148080"/>
                </a:cubicBezTo>
                <a:cubicBezTo>
                  <a:pt x="6529124" y="1131003"/>
                  <a:pt x="6535633" y="1113946"/>
                  <a:pt x="6543040" y="1097280"/>
                </a:cubicBezTo>
                <a:cubicBezTo>
                  <a:pt x="6549191" y="1083440"/>
                  <a:pt x="6555846" y="1069790"/>
                  <a:pt x="6563360" y="1056640"/>
                </a:cubicBezTo>
                <a:cubicBezTo>
                  <a:pt x="6569418" y="1046038"/>
                  <a:pt x="6578563" y="1037247"/>
                  <a:pt x="6583680" y="1026160"/>
                </a:cubicBezTo>
                <a:cubicBezTo>
                  <a:pt x="6598965" y="993042"/>
                  <a:pt x="6608960" y="957644"/>
                  <a:pt x="6624320" y="924560"/>
                </a:cubicBezTo>
                <a:cubicBezTo>
                  <a:pt x="6653021" y="862742"/>
                  <a:pt x="6685280" y="802640"/>
                  <a:pt x="6715760" y="741680"/>
                </a:cubicBezTo>
                <a:cubicBezTo>
                  <a:pt x="6808719" y="555762"/>
                  <a:pt x="6700233" y="766312"/>
                  <a:pt x="6807200" y="579120"/>
                </a:cubicBezTo>
                <a:cubicBezTo>
                  <a:pt x="6856408" y="493007"/>
                  <a:pt x="6813835" y="542005"/>
                  <a:pt x="6868160" y="487680"/>
                </a:cubicBezTo>
                <a:cubicBezTo>
                  <a:pt x="6904169" y="379652"/>
                  <a:pt x="6869161" y="493979"/>
                  <a:pt x="6888480" y="223520"/>
                </a:cubicBezTo>
                <a:cubicBezTo>
                  <a:pt x="6890709" y="192312"/>
                  <a:pt x="6899400" y="170439"/>
                  <a:pt x="6908800" y="142240"/>
                </a:cubicBezTo>
                <a:cubicBezTo>
                  <a:pt x="6919220" y="6783"/>
                  <a:pt x="6918960" y="54317"/>
                  <a:pt x="6918960" y="0"/>
                </a:cubicBez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テキスト ボックス 12"/>
          <p:cNvSpPr/>
          <p:nvPr/>
        </p:nvSpPr>
        <p:spPr>
          <a:xfrm>
            <a:off x="3177000" y="3933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a:t>
            </a:r>
            <a:endParaRPr b="0" lang="en-US" sz="2400" spc="-1" strike="noStrike">
              <a:solidFill>
                <a:srgbClr val="000000"/>
              </a:solidFill>
              <a:latin typeface="Times New Roman"/>
            </a:endParaRPr>
          </a:p>
        </p:txBody>
      </p:sp>
      <p:sp>
        <p:nvSpPr>
          <p:cNvPr id="104" name="テキスト ボックス 13"/>
          <p:cNvSpPr/>
          <p:nvPr/>
        </p:nvSpPr>
        <p:spPr>
          <a:xfrm>
            <a:off x="7594920" y="41385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廃棄物</a:t>
            </a:r>
            <a:endParaRPr b="0" lang="en-US" sz="2400" spc="-1" strike="noStrike">
              <a:solidFill>
                <a:srgbClr val="000000"/>
              </a:solidFill>
              <a:latin typeface="Times New Roman"/>
            </a:endParaRPr>
          </a:p>
        </p:txBody>
      </p:sp>
      <p:sp>
        <p:nvSpPr>
          <p:cNvPr id="105" name="テキスト ボックス 14"/>
          <p:cNvSpPr/>
          <p:nvPr/>
        </p:nvSpPr>
        <p:spPr>
          <a:xfrm>
            <a:off x="5635440" y="3933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a:t>
            </a:r>
            <a:endParaRPr b="0" lang="en-US" sz="2400" spc="-1" strike="noStrike">
              <a:solidFill>
                <a:srgbClr val="000000"/>
              </a:solidFill>
              <a:latin typeface="Times New Roman"/>
            </a:endParaRPr>
          </a:p>
        </p:txBody>
      </p:sp>
      <p:sp>
        <p:nvSpPr>
          <p:cNvPr id="106" name="テキスト ボックス 15"/>
          <p:cNvSpPr/>
          <p:nvPr/>
        </p:nvSpPr>
        <p:spPr>
          <a:xfrm>
            <a:off x="892080" y="60930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今</a:t>
            </a:r>
            <a:endParaRPr b="0" lang="en-US" sz="2400" spc="-1" strike="noStrike">
              <a:solidFill>
                <a:srgbClr val="000000"/>
              </a:solidFill>
              <a:latin typeface="Times New Roman"/>
            </a:endParaRPr>
          </a:p>
        </p:txBody>
      </p:sp>
      <p:sp>
        <p:nvSpPr>
          <p:cNvPr id="107" name="テキスト ボックス 16"/>
          <p:cNvSpPr/>
          <p:nvPr/>
        </p:nvSpPr>
        <p:spPr>
          <a:xfrm>
            <a:off x="3560400" y="60800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５年後</a:t>
            </a:r>
            <a:endParaRPr b="0" lang="en-US" sz="2400" spc="-1" strike="noStrike">
              <a:solidFill>
                <a:srgbClr val="000000"/>
              </a:solidFill>
              <a:latin typeface="Times New Roman"/>
            </a:endParaRPr>
          </a:p>
        </p:txBody>
      </p:sp>
      <p:sp>
        <p:nvSpPr>
          <p:cNvPr id="108" name="テキスト ボックス 17"/>
          <p:cNvSpPr/>
          <p:nvPr/>
        </p:nvSpPr>
        <p:spPr>
          <a:xfrm>
            <a:off x="6166080" y="60674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０年後</a:t>
            </a:r>
            <a:endParaRPr b="0" lang="en-US" sz="2400" spc="-1" strike="noStrike">
              <a:solidFill>
                <a:srgbClr val="000000"/>
              </a:solidFill>
              <a:latin typeface="Times New Roman"/>
            </a:endParaRPr>
          </a:p>
        </p:txBody>
      </p:sp>
      <p:sp>
        <p:nvSpPr>
          <p:cNvPr id="109" name="フリーフォーム 5"/>
          <p:cNvSpPr/>
          <p:nvPr/>
        </p:nvSpPr>
        <p:spPr>
          <a:xfrm>
            <a:off x="1190520" y="5391000"/>
            <a:ext cx="4805640" cy="638280"/>
          </a:xfrm>
          <a:custGeom>
            <a:avLst/>
            <a:gdLst/>
            <a:ahLst/>
            <a:rect l="l" t="t" r="r" b="b"/>
            <a:pathLst>
              <a:path w="4805916" h="637953">
                <a:moveTo>
                  <a:pt x="0" y="457200"/>
                </a:moveTo>
                <a:cubicBezTo>
                  <a:pt x="46074" y="453656"/>
                  <a:pt x="92369" y="452299"/>
                  <a:pt x="138223" y="446567"/>
                </a:cubicBezTo>
                <a:cubicBezTo>
                  <a:pt x="149344" y="445177"/>
                  <a:pt x="159011" y="437416"/>
                  <a:pt x="170120" y="435935"/>
                </a:cubicBezTo>
                <a:cubicBezTo>
                  <a:pt x="258654" y="424130"/>
                  <a:pt x="468763" y="417527"/>
                  <a:pt x="531627" y="414670"/>
                </a:cubicBezTo>
                <a:lnTo>
                  <a:pt x="627320" y="382772"/>
                </a:lnTo>
                <a:lnTo>
                  <a:pt x="659218" y="372140"/>
                </a:lnTo>
                <a:cubicBezTo>
                  <a:pt x="669851" y="368596"/>
                  <a:pt x="679977" y="362745"/>
                  <a:pt x="691116" y="361507"/>
                </a:cubicBezTo>
                <a:lnTo>
                  <a:pt x="786809" y="350874"/>
                </a:lnTo>
                <a:lnTo>
                  <a:pt x="850604" y="329609"/>
                </a:lnTo>
                <a:cubicBezTo>
                  <a:pt x="861237" y="326065"/>
                  <a:pt x="871629" y="321695"/>
                  <a:pt x="882502" y="318977"/>
                </a:cubicBezTo>
                <a:cubicBezTo>
                  <a:pt x="910855" y="311889"/>
                  <a:pt x="939836" y="306954"/>
                  <a:pt x="967562" y="297712"/>
                </a:cubicBezTo>
                <a:cubicBezTo>
                  <a:pt x="978195" y="294168"/>
                  <a:pt x="988683" y="290158"/>
                  <a:pt x="999460" y="287079"/>
                </a:cubicBezTo>
                <a:cubicBezTo>
                  <a:pt x="1092942" y="260369"/>
                  <a:pt x="997387" y="291313"/>
                  <a:pt x="1073888" y="265814"/>
                </a:cubicBezTo>
                <a:cubicBezTo>
                  <a:pt x="1084521" y="258726"/>
                  <a:pt x="1093777" y="248916"/>
                  <a:pt x="1105786" y="244549"/>
                </a:cubicBezTo>
                <a:cubicBezTo>
                  <a:pt x="1133252" y="234561"/>
                  <a:pt x="1190846" y="223284"/>
                  <a:pt x="1190846" y="223284"/>
                </a:cubicBezTo>
                <a:cubicBezTo>
                  <a:pt x="1201479" y="216196"/>
                  <a:pt x="1211067" y="207209"/>
                  <a:pt x="1222744" y="202019"/>
                </a:cubicBezTo>
                <a:cubicBezTo>
                  <a:pt x="1241958" y="193479"/>
                  <a:pt x="1302893" y="174880"/>
                  <a:pt x="1329069" y="170121"/>
                </a:cubicBezTo>
                <a:cubicBezTo>
                  <a:pt x="1353726" y="165638"/>
                  <a:pt x="1378688" y="163032"/>
                  <a:pt x="1403497" y="159488"/>
                </a:cubicBezTo>
                <a:cubicBezTo>
                  <a:pt x="1456515" y="141816"/>
                  <a:pt x="1461610" y="138305"/>
                  <a:pt x="1509823" y="127591"/>
                </a:cubicBezTo>
                <a:cubicBezTo>
                  <a:pt x="1527465" y="123671"/>
                  <a:pt x="1544982" y="118524"/>
                  <a:pt x="1562986" y="116958"/>
                </a:cubicBezTo>
                <a:cubicBezTo>
                  <a:pt x="1626639" y="111423"/>
                  <a:pt x="1690577" y="109870"/>
                  <a:pt x="1754372" y="106326"/>
                </a:cubicBezTo>
                <a:cubicBezTo>
                  <a:pt x="1826171" y="82391"/>
                  <a:pt x="1737800" y="110008"/>
                  <a:pt x="1850065" y="85060"/>
                </a:cubicBezTo>
                <a:cubicBezTo>
                  <a:pt x="1861006" y="82629"/>
                  <a:pt x="1871042" y="76948"/>
                  <a:pt x="1881962" y="74428"/>
                </a:cubicBezTo>
                <a:cubicBezTo>
                  <a:pt x="2062561" y="32752"/>
                  <a:pt x="1920944" y="68758"/>
                  <a:pt x="2052083" y="42530"/>
                </a:cubicBezTo>
                <a:cubicBezTo>
                  <a:pt x="2066412" y="39664"/>
                  <a:pt x="2080348" y="35068"/>
                  <a:pt x="2094613" y="31898"/>
                </a:cubicBezTo>
                <a:cubicBezTo>
                  <a:pt x="2112255" y="27978"/>
                  <a:pt x="2130134" y="25185"/>
                  <a:pt x="2147776" y="21265"/>
                </a:cubicBezTo>
                <a:cubicBezTo>
                  <a:pt x="2162041" y="18095"/>
                  <a:pt x="2175863" y="12855"/>
                  <a:pt x="2190306" y="10633"/>
                </a:cubicBezTo>
                <a:cubicBezTo>
                  <a:pt x="2222027" y="5753"/>
                  <a:pt x="2254102" y="3544"/>
                  <a:pt x="2286000" y="0"/>
                </a:cubicBezTo>
                <a:cubicBezTo>
                  <a:pt x="2399414" y="3544"/>
                  <a:pt x="2513035" y="2914"/>
                  <a:pt x="2626241" y="10633"/>
                </a:cubicBezTo>
                <a:cubicBezTo>
                  <a:pt x="2669258" y="13566"/>
                  <a:pt x="2711742" y="22545"/>
                  <a:pt x="2753832" y="31898"/>
                </a:cubicBezTo>
                <a:cubicBezTo>
                  <a:pt x="2775714" y="36761"/>
                  <a:pt x="2796362" y="46075"/>
                  <a:pt x="2817627" y="53163"/>
                </a:cubicBezTo>
                <a:lnTo>
                  <a:pt x="2849525" y="63795"/>
                </a:lnTo>
                <a:cubicBezTo>
                  <a:pt x="2860158" y="67339"/>
                  <a:pt x="2870433" y="72230"/>
                  <a:pt x="2881423" y="74428"/>
                </a:cubicBezTo>
                <a:cubicBezTo>
                  <a:pt x="2899144" y="77972"/>
                  <a:pt x="2916944" y="81140"/>
                  <a:pt x="2934586" y="85060"/>
                </a:cubicBezTo>
                <a:cubicBezTo>
                  <a:pt x="2948851" y="88230"/>
                  <a:pt x="2962739" y="93079"/>
                  <a:pt x="2977116" y="95693"/>
                </a:cubicBezTo>
                <a:cubicBezTo>
                  <a:pt x="3001773" y="100176"/>
                  <a:pt x="3026735" y="102782"/>
                  <a:pt x="3051544" y="106326"/>
                </a:cubicBezTo>
                <a:cubicBezTo>
                  <a:pt x="3094248" y="123408"/>
                  <a:pt x="3120303" y="138223"/>
                  <a:pt x="3168502" y="138223"/>
                </a:cubicBezTo>
                <a:cubicBezTo>
                  <a:pt x="3190060" y="138223"/>
                  <a:pt x="3211032" y="131135"/>
                  <a:pt x="3232297" y="127591"/>
                </a:cubicBezTo>
                <a:cubicBezTo>
                  <a:pt x="3313813" y="131135"/>
                  <a:pt x="3395658" y="130104"/>
                  <a:pt x="3476846" y="138223"/>
                </a:cubicBezTo>
                <a:cubicBezTo>
                  <a:pt x="3502520" y="140790"/>
                  <a:pt x="3529299" y="145965"/>
                  <a:pt x="3551274" y="159488"/>
                </a:cubicBezTo>
                <a:cubicBezTo>
                  <a:pt x="3603328" y="191522"/>
                  <a:pt x="3598875" y="223938"/>
                  <a:pt x="3646967" y="244549"/>
                </a:cubicBezTo>
                <a:cubicBezTo>
                  <a:pt x="3660398" y="250305"/>
                  <a:pt x="3675500" y="250982"/>
                  <a:pt x="3689497" y="255181"/>
                </a:cubicBezTo>
                <a:cubicBezTo>
                  <a:pt x="3717540" y="263594"/>
                  <a:pt x="3819412" y="298874"/>
                  <a:pt x="3838353" y="308344"/>
                </a:cubicBezTo>
                <a:cubicBezTo>
                  <a:pt x="3967081" y="372709"/>
                  <a:pt x="3815225" y="318357"/>
                  <a:pt x="3912781" y="350874"/>
                </a:cubicBezTo>
                <a:cubicBezTo>
                  <a:pt x="4014374" y="427070"/>
                  <a:pt x="3967450" y="396436"/>
                  <a:pt x="4051004" y="446567"/>
                </a:cubicBezTo>
                <a:cubicBezTo>
                  <a:pt x="4058092" y="457200"/>
                  <a:pt x="4063233" y="469429"/>
                  <a:pt x="4072269" y="478465"/>
                </a:cubicBezTo>
                <a:cubicBezTo>
                  <a:pt x="4113399" y="519595"/>
                  <a:pt x="4162941" y="504238"/>
                  <a:pt x="4221125" y="510363"/>
                </a:cubicBezTo>
                <a:cubicBezTo>
                  <a:pt x="4249542" y="513354"/>
                  <a:pt x="4277832" y="517451"/>
                  <a:pt x="4306186" y="520995"/>
                </a:cubicBezTo>
                <a:cubicBezTo>
                  <a:pt x="4380965" y="545923"/>
                  <a:pt x="4291335" y="518520"/>
                  <a:pt x="4433776" y="542260"/>
                </a:cubicBezTo>
                <a:cubicBezTo>
                  <a:pt x="4444831" y="544103"/>
                  <a:pt x="4454801" y="550175"/>
                  <a:pt x="4465674" y="552893"/>
                </a:cubicBezTo>
                <a:cubicBezTo>
                  <a:pt x="4483206" y="557276"/>
                  <a:pt x="4501305" y="559143"/>
                  <a:pt x="4518837" y="563526"/>
                </a:cubicBezTo>
                <a:cubicBezTo>
                  <a:pt x="4529710" y="566244"/>
                  <a:pt x="4539793" y="571727"/>
                  <a:pt x="4550734" y="574158"/>
                </a:cubicBezTo>
                <a:cubicBezTo>
                  <a:pt x="4571779" y="578835"/>
                  <a:pt x="4593485" y="580114"/>
                  <a:pt x="4614530" y="584791"/>
                </a:cubicBezTo>
                <a:cubicBezTo>
                  <a:pt x="4625471" y="587222"/>
                  <a:pt x="4635437" y="593225"/>
                  <a:pt x="4646427" y="595423"/>
                </a:cubicBezTo>
                <a:cubicBezTo>
                  <a:pt x="4671002" y="600338"/>
                  <a:pt x="4696046" y="602512"/>
                  <a:pt x="4720855" y="606056"/>
                </a:cubicBezTo>
                <a:cubicBezTo>
                  <a:pt x="4792169" y="629827"/>
                  <a:pt x="4764602" y="617297"/>
                  <a:pt x="4805916" y="637953"/>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フリーフォーム 9"/>
          <p:cNvSpPr/>
          <p:nvPr/>
        </p:nvSpPr>
        <p:spPr>
          <a:xfrm>
            <a:off x="3614760" y="4454640"/>
            <a:ext cx="4816440" cy="1201680"/>
          </a:xfrm>
          <a:custGeom>
            <a:avLst/>
            <a:gdLst/>
            <a:ahLst/>
            <a:rect l="l" t="t" r="r" b="b"/>
            <a:pathLst>
              <a:path w="4816549" h="1201479">
                <a:moveTo>
                  <a:pt x="0" y="637953"/>
                </a:moveTo>
                <a:cubicBezTo>
                  <a:pt x="17721" y="634409"/>
                  <a:pt x="36242" y="633666"/>
                  <a:pt x="53163" y="627321"/>
                </a:cubicBezTo>
                <a:cubicBezTo>
                  <a:pt x="65128" y="622834"/>
                  <a:pt x="73965" y="612396"/>
                  <a:pt x="85060" y="606056"/>
                </a:cubicBezTo>
                <a:cubicBezTo>
                  <a:pt x="103426" y="595561"/>
                  <a:pt x="162528" y="567430"/>
                  <a:pt x="180753" y="563525"/>
                </a:cubicBezTo>
                <a:cubicBezTo>
                  <a:pt x="212135" y="556800"/>
                  <a:pt x="244548" y="556437"/>
                  <a:pt x="276446" y="552893"/>
                </a:cubicBezTo>
                <a:lnTo>
                  <a:pt x="361507" y="531628"/>
                </a:lnTo>
                <a:lnTo>
                  <a:pt x="404037" y="520995"/>
                </a:lnTo>
                <a:cubicBezTo>
                  <a:pt x="414670" y="513907"/>
                  <a:pt x="424505" y="505445"/>
                  <a:pt x="435935" y="499730"/>
                </a:cubicBezTo>
                <a:cubicBezTo>
                  <a:pt x="468714" y="483341"/>
                  <a:pt x="523576" y="482130"/>
                  <a:pt x="552893" y="478465"/>
                </a:cubicBezTo>
                <a:cubicBezTo>
                  <a:pt x="693945" y="407939"/>
                  <a:pt x="517808" y="493502"/>
                  <a:pt x="627321" y="446567"/>
                </a:cubicBezTo>
                <a:cubicBezTo>
                  <a:pt x="641889" y="440323"/>
                  <a:pt x="655135" y="431189"/>
                  <a:pt x="669851" y="425302"/>
                </a:cubicBezTo>
                <a:cubicBezTo>
                  <a:pt x="669882" y="425290"/>
                  <a:pt x="749580" y="398726"/>
                  <a:pt x="765544" y="393405"/>
                </a:cubicBezTo>
                <a:cubicBezTo>
                  <a:pt x="776177" y="389861"/>
                  <a:pt x="786569" y="385490"/>
                  <a:pt x="797442" y="382772"/>
                </a:cubicBezTo>
                <a:cubicBezTo>
                  <a:pt x="819016" y="377378"/>
                  <a:pt x="850521" y="370657"/>
                  <a:pt x="871870" y="361507"/>
                </a:cubicBezTo>
                <a:cubicBezTo>
                  <a:pt x="886438" y="355263"/>
                  <a:pt x="900638" y="348106"/>
                  <a:pt x="914400" y="340242"/>
                </a:cubicBezTo>
                <a:cubicBezTo>
                  <a:pt x="925495" y="333902"/>
                  <a:pt x="934620" y="324167"/>
                  <a:pt x="946297" y="318977"/>
                </a:cubicBezTo>
                <a:cubicBezTo>
                  <a:pt x="966781" y="309873"/>
                  <a:pt x="990044" y="307736"/>
                  <a:pt x="1010093" y="297711"/>
                </a:cubicBezTo>
                <a:cubicBezTo>
                  <a:pt x="1024270" y="290623"/>
                  <a:pt x="1037331" y="280616"/>
                  <a:pt x="1052623" y="276446"/>
                </a:cubicBezTo>
                <a:cubicBezTo>
                  <a:pt x="1076801" y="269852"/>
                  <a:pt x="1102242" y="269358"/>
                  <a:pt x="1127051" y="265814"/>
                </a:cubicBezTo>
                <a:cubicBezTo>
                  <a:pt x="1137684" y="258726"/>
                  <a:pt x="1147519" y="250264"/>
                  <a:pt x="1158949" y="244549"/>
                </a:cubicBezTo>
                <a:cubicBezTo>
                  <a:pt x="1176020" y="236014"/>
                  <a:pt x="1194174" y="229807"/>
                  <a:pt x="1212111" y="223284"/>
                </a:cubicBezTo>
                <a:cubicBezTo>
                  <a:pt x="1253773" y="208134"/>
                  <a:pt x="1277627" y="200455"/>
                  <a:pt x="1318437" y="191386"/>
                </a:cubicBezTo>
                <a:cubicBezTo>
                  <a:pt x="1336079" y="187466"/>
                  <a:pt x="1354165" y="185508"/>
                  <a:pt x="1371600" y="180753"/>
                </a:cubicBezTo>
                <a:cubicBezTo>
                  <a:pt x="1393225" y="174855"/>
                  <a:pt x="1414792" y="168318"/>
                  <a:pt x="1435395" y="159488"/>
                </a:cubicBezTo>
                <a:cubicBezTo>
                  <a:pt x="1519570" y="123413"/>
                  <a:pt x="1494240" y="122929"/>
                  <a:pt x="1552353" y="106325"/>
                </a:cubicBezTo>
                <a:cubicBezTo>
                  <a:pt x="1615643" y="88242"/>
                  <a:pt x="1586510" y="100115"/>
                  <a:pt x="1669311" y="85060"/>
                </a:cubicBezTo>
                <a:cubicBezTo>
                  <a:pt x="1683689" y="82446"/>
                  <a:pt x="1697357" y="76359"/>
                  <a:pt x="1711842" y="74428"/>
                </a:cubicBezTo>
                <a:cubicBezTo>
                  <a:pt x="1750645" y="69254"/>
                  <a:pt x="1789814" y="67339"/>
                  <a:pt x="1828800" y="63795"/>
                </a:cubicBezTo>
                <a:cubicBezTo>
                  <a:pt x="1922527" y="32554"/>
                  <a:pt x="1795873" y="71789"/>
                  <a:pt x="2020186" y="42530"/>
                </a:cubicBezTo>
                <a:cubicBezTo>
                  <a:pt x="2049166" y="38750"/>
                  <a:pt x="2077520" y="30507"/>
                  <a:pt x="2105246" y="21265"/>
                </a:cubicBezTo>
                <a:cubicBezTo>
                  <a:pt x="2115879" y="17721"/>
                  <a:pt x="2126005" y="11870"/>
                  <a:pt x="2137144" y="10632"/>
                </a:cubicBezTo>
                <a:cubicBezTo>
                  <a:pt x="2190099" y="4748"/>
                  <a:pt x="2243469" y="3544"/>
                  <a:pt x="2296632" y="0"/>
                </a:cubicBezTo>
                <a:lnTo>
                  <a:pt x="2647507" y="10632"/>
                </a:lnTo>
                <a:cubicBezTo>
                  <a:pt x="2686613" y="12410"/>
                  <a:pt x="2725453" y="18014"/>
                  <a:pt x="2764465" y="21265"/>
                </a:cubicBezTo>
                <a:lnTo>
                  <a:pt x="2902688" y="31898"/>
                </a:lnTo>
                <a:cubicBezTo>
                  <a:pt x="2913321" y="35442"/>
                  <a:pt x="2924855" y="36969"/>
                  <a:pt x="2934586" y="42530"/>
                </a:cubicBezTo>
                <a:cubicBezTo>
                  <a:pt x="2948340" y="50390"/>
                  <a:pt x="2990494" y="87462"/>
                  <a:pt x="3009014" y="95693"/>
                </a:cubicBezTo>
                <a:cubicBezTo>
                  <a:pt x="3029497" y="104797"/>
                  <a:pt x="3054158" y="104524"/>
                  <a:pt x="3072809" y="116958"/>
                </a:cubicBezTo>
                <a:cubicBezTo>
                  <a:pt x="3094074" y="131135"/>
                  <a:pt x="3111073" y="158327"/>
                  <a:pt x="3136604" y="159488"/>
                </a:cubicBezTo>
                <a:lnTo>
                  <a:pt x="3370521" y="170121"/>
                </a:lnTo>
                <a:cubicBezTo>
                  <a:pt x="3388242" y="177209"/>
                  <a:pt x="3406612" y="182851"/>
                  <a:pt x="3423683" y="191386"/>
                </a:cubicBezTo>
                <a:cubicBezTo>
                  <a:pt x="3435113" y="197101"/>
                  <a:pt x="3444151" y="206936"/>
                  <a:pt x="3455581" y="212651"/>
                </a:cubicBezTo>
                <a:cubicBezTo>
                  <a:pt x="3546723" y="258221"/>
                  <a:pt x="3472355" y="210085"/>
                  <a:pt x="3551274" y="255181"/>
                </a:cubicBezTo>
                <a:cubicBezTo>
                  <a:pt x="3608987" y="288160"/>
                  <a:pt x="3556587" y="267584"/>
                  <a:pt x="3615070" y="287079"/>
                </a:cubicBezTo>
                <a:cubicBezTo>
                  <a:pt x="3629247" y="297712"/>
                  <a:pt x="3642573" y="309585"/>
                  <a:pt x="3657600" y="318977"/>
                </a:cubicBezTo>
                <a:cubicBezTo>
                  <a:pt x="3687632" y="337747"/>
                  <a:pt x="3701019" y="340538"/>
                  <a:pt x="3732028" y="350874"/>
                </a:cubicBezTo>
                <a:cubicBezTo>
                  <a:pt x="3742660" y="365051"/>
                  <a:pt x="3753625" y="378985"/>
                  <a:pt x="3763925" y="393405"/>
                </a:cubicBezTo>
                <a:cubicBezTo>
                  <a:pt x="3771352" y="403803"/>
                  <a:pt x="3776700" y="415751"/>
                  <a:pt x="3785190" y="425302"/>
                </a:cubicBezTo>
                <a:cubicBezTo>
                  <a:pt x="3805170" y="447779"/>
                  <a:pt x="3827721" y="467833"/>
                  <a:pt x="3848986" y="489098"/>
                </a:cubicBezTo>
                <a:lnTo>
                  <a:pt x="3880883" y="520995"/>
                </a:lnTo>
                <a:cubicBezTo>
                  <a:pt x="3887972" y="528083"/>
                  <a:pt x="3893553" y="537102"/>
                  <a:pt x="3902149" y="542260"/>
                </a:cubicBezTo>
                <a:cubicBezTo>
                  <a:pt x="3919870" y="552893"/>
                  <a:pt x="3936498" y="565606"/>
                  <a:pt x="3955311" y="574158"/>
                </a:cubicBezTo>
                <a:cubicBezTo>
                  <a:pt x="4001702" y="595245"/>
                  <a:pt x="4028531" y="592389"/>
                  <a:pt x="4072270" y="616688"/>
                </a:cubicBezTo>
                <a:cubicBezTo>
                  <a:pt x="4087761" y="625294"/>
                  <a:pt x="4101345" y="637053"/>
                  <a:pt x="4114800" y="648586"/>
                </a:cubicBezTo>
                <a:cubicBezTo>
                  <a:pt x="4126217" y="658372"/>
                  <a:pt x="4135146" y="670858"/>
                  <a:pt x="4146697" y="680484"/>
                </a:cubicBezTo>
                <a:cubicBezTo>
                  <a:pt x="4205784" y="729723"/>
                  <a:pt x="4188935" y="674726"/>
                  <a:pt x="4263656" y="786809"/>
                </a:cubicBezTo>
                <a:cubicBezTo>
                  <a:pt x="4285530" y="819620"/>
                  <a:pt x="4284983" y="823318"/>
                  <a:pt x="4316818" y="850605"/>
                </a:cubicBezTo>
                <a:cubicBezTo>
                  <a:pt x="4347345" y="876771"/>
                  <a:pt x="4365577" y="888209"/>
                  <a:pt x="4401879" y="903767"/>
                </a:cubicBezTo>
                <a:cubicBezTo>
                  <a:pt x="4412181" y="908182"/>
                  <a:pt x="4423980" y="908957"/>
                  <a:pt x="4433777" y="914400"/>
                </a:cubicBezTo>
                <a:cubicBezTo>
                  <a:pt x="4456118" y="926812"/>
                  <a:pt x="4473326" y="948848"/>
                  <a:pt x="4497572" y="956930"/>
                </a:cubicBezTo>
                <a:cubicBezTo>
                  <a:pt x="4530570" y="967930"/>
                  <a:pt x="4539154" y="969120"/>
                  <a:pt x="4572000" y="988828"/>
                </a:cubicBezTo>
                <a:cubicBezTo>
                  <a:pt x="4593915" y="1001977"/>
                  <a:pt x="4614530" y="1017181"/>
                  <a:pt x="4635795" y="1031358"/>
                </a:cubicBezTo>
                <a:cubicBezTo>
                  <a:pt x="4646428" y="1038446"/>
                  <a:pt x="4658657" y="1043587"/>
                  <a:pt x="4667693" y="1052623"/>
                </a:cubicBezTo>
                <a:lnTo>
                  <a:pt x="4720856" y="1105786"/>
                </a:lnTo>
                <a:cubicBezTo>
                  <a:pt x="4731488" y="1116419"/>
                  <a:pt x="4740242" y="1129343"/>
                  <a:pt x="4752753" y="1137684"/>
                </a:cubicBezTo>
                <a:lnTo>
                  <a:pt x="4784651" y="1158949"/>
                </a:lnTo>
                <a:cubicBezTo>
                  <a:pt x="4808696" y="1195017"/>
                  <a:pt x="4796880" y="1181810"/>
                  <a:pt x="4816549" y="1201479"/>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フリーフォーム 10"/>
          <p:cNvSpPr/>
          <p:nvPr/>
        </p:nvSpPr>
        <p:spPr>
          <a:xfrm>
            <a:off x="6006960" y="4965840"/>
            <a:ext cx="2414880" cy="712800"/>
          </a:xfrm>
          <a:custGeom>
            <a:avLst/>
            <a:gdLst/>
            <a:ahLst/>
            <a:rect l="l" t="t" r="r" b="b"/>
            <a:pathLst>
              <a:path w="2413591" h="712381">
                <a:moveTo>
                  <a:pt x="0" y="712381"/>
                </a:moveTo>
                <a:cubicBezTo>
                  <a:pt x="99237" y="694660"/>
                  <a:pt x="198976" y="679546"/>
                  <a:pt x="297712" y="659218"/>
                </a:cubicBezTo>
                <a:cubicBezTo>
                  <a:pt x="319667" y="654698"/>
                  <a:pt x="339849" y="643729"/>
                  <a:pt x="361507" y="637953"/>
                </a:cubicBezTo>
                <a:cubicBezTo>
                  <a:pt x="393079" y="629534"/>
                  <a:pt x="425302" y="623776"/>
                  <a:pt x="457200" y="616688"/>
                </a:cubicBezTo>
                <a:cubicBezTo>
                  <a:pt x="532168" y="579205"/>
                  <a:pt x="467175" y="609194"/>
                  <a:pt x="563526" y="574158"/>
                </a:cubicBezTo>
                <a:cubicBezTo>
                  <a:pt x="581463" y="567635"/>
                  <a:pt x="598275" y="557915"/>
                  <a:pt x="616689" y="552893"/>
                </a:cubicBezTo>
                <a:cubicBezTo>
                  <a:pt x="637488" y="547221"/>
                  <a:pt x="659219" y="545804"/>
                  <a:pt x="680484" y="542260"/>
                </a:cubicBezTo>
                <a:cubicBezTo>
                  <a:pt x="766883" y="484662"/>
                  <a:pt x="657234" y="550110"/>
                  <a:pt x="871870" y="510362"/>
                </a:cubicBezTo>
                <a:cubicBezTo>
                  <a:pt x="896143" y="505867"/>
                  <a:pt x="1009531" y="465719"/>
                  <a:pt x="1052624" y="446567"/>
                </a:cubicBezTo>
                <a:cubicBezTo>
                  <a:pt x="1067108" y="440130"/>
                  <a:pt x="1080586" y="431546"/>
                  <a:pt x="1095154" y="425302"/>
                </a:cubicBezTo>
                <a:cubicBezTo>
                  <a:pt x="1105456" y="420887"/>
                  <a:pt x="1116750" y="419084"/>
                  <a:pt x="1127052" y="414669"/>
                </a:cubicBezTo>
                <a:cubicBezTo>
                  <a:pt x="1141620" y="408425"/>
                  <a:pt x="1154205" y="397248"/>
                  <a:pt x="1169582" y="393404"/>
                </a:cubicBezTo>
                <a:cubicBezTo>
                  <a:pt x="1197303" y="386474"/>
                  <a:pt x="1226289" y="386316"/>
                  <a:pt x="1254642" y="382772"/>
                </a:cubicBezTo>
                <a:cubicBezTo>
                  <a:pt x="1282996" y="375684"/>
                  <a:pt x="1311601" y="369536"/>
                  <a:pt x="1339703" y="361507"/>
                </a:cubicBezTo>
                <a:cubicBezTo>
                  <a:pt x="1465616" y="325532"/>
                  <a:pt x="1345259" y="351890"/>
                  <a:pt x="1456661" y="329609"/>
                </a:cubicBezTo>
                <a:lnTo>
                  <a:pt x="1541721" y="287079"/>
                </a:lnTo>
                <a:lnTo>
                  <a:pt x="1584252" y="265814"/>
                </a:lnTo>
                <a:cubicBezTo>
                  <a:pt x="1591340" y="258725"/>
                  <a:pt x="1597176" y="250109"/>
                  <a:pt x="1605517" y="244548"/>
                </a:cubicBezTo>
                <a:cubicBezTo>
                  <a:pt x="1646724" y="217076"/>
                  <a:pt x="1660439" y="221218"/>
                  <a:pt x="1711842" y="212651"/>
                </a:cubicBezTo>
                <a:cubicBezTo>
                  <a:pt x="1722475" y="209107"/>
                  <a:pt x="1732713" y="204023"/>
                  <a:pt x="1743740" y="202018"/>
                </a:cubicBezTo>
                <a:cubicBezTo>
                  <a:pt x="1771853" y="196907"/>
                  <a:pt x="1801233" y="198904"/>
                  <a:pt x="1828800" y="191386"/>
                </a:cubicBezTo>
                <a:cubicBezTo>
                  <a:pt x="1841129" y="188024"/>
                  <a:pt x="1848952" y="175155"/>
                  <a:pt x="1860698" y="170121"/>
                </a:cubicBezTo>
                <a:cubicBezTo>
                  <a:pt x="1874129" y="164365"/>
                  <a:pt x="1889545" y="164619"/>
                  <a:pt x="1903228" y="159488"/>
                </a:cubicBezTo>
                <a:cubicBezTo>
                  <a:pt x="1918069" y="153923"/>
                  <a:pt x="1930917" y="143788"/>
                  <a:pt x="1945758" y="138223"/>
                </a:cubicBezTo>
                <a:cubicBezTo>
                  <a:pt x="1959441" y="133092"/>
                  <a:pt x="1974238" y="131605"/>
                  <a:pt x="1988289" y="127590"/>
                </a:cubicBezTo>
                <a:cubicBezTo>
                  <a:pt x="1999065" y="124511"/>
                  <a:pt x="2009245" y="119389"/>
                  <a:pt x="2020186" y="116958"/>
                </a:cubicBezTo>
                <a:cubicBezTo>
                  <a:pt x="2041231" y="112281"/>
                  <a:pt x="2062842" y="110553"/>
                  <a:pt x="2083982" y="106325"/>
                </a:cubicBezTo>
                <a:cubicBezTo>
                  <a:pt x="2098311" y="103459"/>
                  <a:pt x="2112335" y="99237"/>
                  <a:pt x="2126512" y="95693"/>
                </a:cubicBezTo>
                <a:cubicBezTo>
                  <a:pt x="2137145" y="88605"/>
                  <a:pt x="2148431" y="82411"/>
                  <a:pt x="2158410" y="74428"/>
                </a:cubicBezTo>
                <a:cubicBezTo>
                  <a:pt x="2166238" y="68166"/>
                  <a:pt x="2171079" y="58320"/>
                  <a:pt x="2179675" y="53162"/>
                </a:cubicBezTo>
                <a:cubicBezTo>
                  <a:pt x="2210327" y="34770"/>
                  <a:pt x="2311770" y="32510"/>
                  <a:pt x="2317898" y="31897"/>
                </a:cubicBezTo>
                <a:lnTo>
                  <a:pt x="2381693" y="10632"/>
                </a:lnTo>
                <a:lnTo>
                  <a:pt x="2413591" y="0"/>
                </a:ln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テキスト ボックス 18"/>
          <p:cNvSpPr/>
          <p:nvPr/>
        </p:nvSpPr>
        <p:spPr>
          <a:xfrm>
            <a:off x="2435400" y="5445000"/>
            <a:ext cx="16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S/T</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p:txBody>
      </p:sp>
      <p:sp>
        <p:nvSpPr>
          <p:cNvPr id="113" name="テキスト ボックス 19"/>
          <p:cNvSpPr/>
          <p:nvPr/>
        </p:nvSpPr>
        <p:spPr>
          <a:xfrm>
            <a:off x="5308560" y="45514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溶融燃料取出</a:t>
            </a:r>
            <a:endParaRPr b="0" lang="en-US" sz="2400" spc="-1" strike="noStrike">
              <a:solidFill>
                <a:srgbClr val="000000"/>
              </a:solidFill>
              <a:latin typeface="Times New Roman"/>
            </a:endParaRPr>
          </a:p>
        </p:txBody>
      </p:sp>
      <p:sp>
        <p:nvSpPr>
          <p:cNvPr id="114" name="テキスト ボックス 20"/>
          <p:cNvSpPr/>
          <p:nvPr/>
        </p:nvSpPr>
        <p:spPr>
          <a:xfrm>
            <a:off x="7032600" y="5472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埋設処理場</a:t>
            </a:r>
            <a:endParaRPr b="0" lang="en-US" sz="2400" spc="-1" strike="noStrike">
              <a:solidFill>
                <a:srgbClr val="000000"/>
              </a:solidFill>
              <a:latin typeface="Times New Roman"/>
            </a:endParaRPr>
          </a:p>
        </p:txBody>
      </p:sp>
      <p:sp>
        <p:nvSpPr>
          <p:cNvPr id="11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D7C3-23F1-489A-8895-7AB302E65D5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高放射線環境下</a:t>
            </a:r>
            <a:endParaRPr b="0" lang="en-US" sz="4400" spc="-1" strike="noStrike">
              <a:solidFill>
                <a:srgbClr val="0000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する人材の枯渇</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毎の管理</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ゼロクリアされた作業員が戻ってくるか。</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考えた対策が必須</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お金をかけてもどうにもならない</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効果的な除染作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環境の改善</a:t>
            </a:r>
            <a:endParaRPr b="0" lang="en-US" sz="3200" spc="-1" strike="noStrike">
              <a:solidFill>
                <a:srgbClr val="000000"/>
              </a:solidFill>
              <a:latin typeface="Times New Roman"/>
            </a:endParaRPr>
          </a:p>
        </p:txBody>
      </p:sp>
      <p:sp>
        <p:nvSpPr>
          <p:cNvPr id="118"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BEBD6-BCB7-4E87-AF59-2281B5A31B5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全て新設</a:t>
            </a:r>
            <a:endParaRPr b="0" lang="en-US" sz="4400" spc="-1" strike="noStrike">
              <a:solidFill>
                <a:srgbClr val="0000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合理的な新設設備の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も新設の可能性</a:t>
            </a:r>
            <a:br>
              <a:rPr sz="3200"/>
            </a:br>
            <a:r>
              <a:rPr b="0" lang="ja-JP" sz="3200" spc="-1" strike="noStrike">
                <a:solidFill>
                  <a:srgbClr val="000000"/>
                </a:solidFill>
                <a:latin typeface="Times New Roman"/>
              </a:rPr>
              <a:t>（チェルノブイリでは建屋を新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の設備も放射性廃棄物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設備の設計に、バックエンド時の合理化を図るための知見を反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A134-60AD-430E-969E-FDCD9AF6A02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管理</a:t>
            </a:r>
            <a:endParaRPr b="0" lang="en-US" sz="44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も考慮すべきリスク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間の管理が必須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終管理をどう考えるかを今から検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サリーや</a:t>
            </a:r>
            <a:r>
              <a:rPr b="0" lang="en-US" sz="3200" spc="-1" strike="noStrike">
                <a:solidFill>
                  <a:srgbClr val="000000"/>
                </a:solidFill>
                <a:latin typeface="Times New Roman"/>
              </a:rPr>
              <a:t>ALPS</a:t>
            </a:r>
            <a:r>
              <a:rPr b="0" lang="ja-JP" sz="3200" spc="-1" strike="noStrike">
                <a:solidFill>
                  <a:srgbClr val="000000"/>
                </a:solidFill>
                <a:latin typeface="Times New Roman"/>
              </a:rPr>
              <a:t>からの比較的高レベル廃棄物の埋設処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低レベル廃棄物としての汚染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がれき処理</a:t>
            </a:r>
            <a:endParaRPr b="0" lang="en-US" sz="3200" spc="-1" strike="noStrike">
              <a:solidFill>
                <a:srgbClr val="000000"/>
              </a:solidFill>
              <a:latin typeface="Times New Roman"/>
            </a:endParaRPr>
          </a:p>
        </p:txBody>
      </p:sp>
      <p:sp>
        <p:nvSpPr>
          <p:cNvPr id="124"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B4207-84B5-406A-BF20-CF54CD13C4E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処理処分</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発生</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は一般産業廃棄物のものが全て廃棄物</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S</a:t>
            </a:r>
            <a:r>
              <a:rPr b="0" lang="ja-JP" sz="2800" spc="-1" strike="noStrike">
                <a:solidFill>
                  <a:srgbClr val="000000"/>
                </a:solidFill>
                <a:latin typeface="Times New Roman"/>
              </a:rPr>
              <a:t>やサリーなど水処理後の廃棄物</a:t>
            </a:r>
            <a:endParaRPr b="0" lang="en-US" sz="28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減衰</a:t>
            </a:r>
            <a:r>
              <a:rPr b="0" lang="ja-JP" sz="2400" spc="-1" strike="noStrike">
                <a:solidFill>
                  <a:srgbClr val="000000"/>
                </a:solidFill>
                <a:latin typeface="Times New Roman"/>
              </a:rPr>
              <a:t>(</a:t>
            </a:r>
            <a:r>
              <a:rPr b="0" lang="ja-JP" sz="2400" spc="-1" strike="noStrike">
                <a:solidFill>
                  <a:srgbClr val="000000"/>
                </a:solidFill>
                <a:latin typeface="Times New Roman"/>
              </a:rPr>
              <a:t>セシウム</a:t>
            </a:r>
            <a:r>
              <a:rPr b="0" lang="ja-JP" sz="2400" spc="-1" strike="noStrike">
                <a:solidFill>
                  <a:srgbClr val="000000"/>
                </a:solidFill>
                <a:latin typeface="Times New Roman"/>
              </a:rPr>
              <a:t>137</a:t>
            </a:r>
            <a:r>
              <a:rPr b="0" lang="ja-JP" sz="2400" spc="-1" strike="noStrike">
                <a:solidFill>
                  <a:srgbClr val="000000"/>
                </a:solidFill>
                <a:latin typeface="Times New Roman"/>
              </a:rPr>
              <a:t>は</a:t>
            </a:r>
            <a:r>
              <a:rPr b="0" lang="ja-JP" sz="2400" spc="-1" strike="noStrike">
                <a:solidFill>
                  <a:srgbClr val="000000"/>
                </a:solidFill>
                <a:latin typeface="Times New Roman"/>
              </a:rPr>
              <a:t>100</a:t>
            </a:r>
            <a:r>
              <a:rPr b="0" lang="ja-JP" sz="2400" spc="-1" strike="noStrike">
                <a:solidFill>
                  <a:srgbClr val="000000"/>
                </a:solidFill>
                <a:latin typeface="Times New Roman"/>
              </a:rPr>
              <a:t>年で</a:t>
            </a:r>
            <a:r>
              <a:rPr b="0" lang="ja-JP" sz="2400" spc="-1" strike="noStrike">
                <a:solidFill>
                  <a:srgbClr val="000000"/>
                </a:solidFill>
                <a:latin typeface="Times New Roman"/>
              </a:rPr>
              <a:t>1/10</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減容処理技術開発</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処理処分技術開発</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ンフォードの様に処理処分研究拠点へ</a:t>
            </a:r>
            <a:endParaRPr b="0" lang="en-US" sz="3200" spc="-1" strike="noStrike">
              <a:solidFill>
                <a:srgbClr val="000000"/>
              </a:solidFill>
              <a:latin typeface="Times New Roman"/>
            </a:endParaRPr>
          </a:p>
        </p:txBody>
      </p:sp>
      <p:sp>
        <p:nvSpPr>
          <p:cNvPr id="12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29C70-E018-4681-9206-5D66AFCF027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原子力ライフサイクル</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277640"/>
            <a:ext cx="7772400" cy="4647960"/>
          </a:xfrm>
          <a:prstGeom prst="rect">
            <a:avLst/>
          </a:prstGeom>
          <a:noFill/>
          <a:ln w="0">
            <a:noFill/>
          </a:ln>
        </p:spPr>
        <p:txBody>
          <a:bodyPr anchor="t">
            <a:normAutofit/>
          </a:bodyPr>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2060"/>
                </a:solidFill>
                <a:uFillTx/>
                <a:latin typeface="Times New Roman"/>
              </a:rPr>
              <a:t>廃止措置</a:t>
            </a:r>
            <a:r>
              <a:rPr b="0" lang="ja-JP" sz="3200" spc="-1" strike="noStrike" u="sng">
                <a:solidFill>
                  <a:srgbClr val="002060"/>
                </a:solidFill>
                <a:uFillTx/>
                <a:latin typeface="Times New Roman"/>
              </a:rPr>
              <a:t>とは</a:t>
            </a:r>
            <a:endParaRPr b="0" lang="en-US" sz="3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という「リスク」を内包しているシステムを解体し、</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を廃棄もしくは管理下におくとともに、</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発電所自体からは、放射性物質による被ばくもしくは汚染のリスクを無くすこと</a:t>
            </a:r>
            <a:endParaRPr b="0" lang="en-US" sz="2200" spc="-1" strike="noStrike">
              <a:solidFill>
                <a:srgbClr val="000000"/>
              </a:solidFill>
              <a:latin typeface="Times New Roman"/>
            </a:endParaRPr>
          </a:p>
          <a:p>
            <a:pPr marL="343080" indent="-34308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廃止措置においても、安全の基本的考え方は変わらない</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深層防護の考え方</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重要度分類（リスクの高いものに集中）</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継続的改善（経験の反映、被ばく低減、リスク低減）</a:t>
            </a:r>
            <a:endParaRPr b="0" lang="en-US" sz="2200" spc="-1" strike="noStrike">
              <a:solidFill>
                <a:srgbClr val="000000"/>
              </a:solidFill>
              <a:latin typeface="Times New Roman"/>
            </a:endParaRPr>
          </a:p>
        </p:txBody>
      </p:sp>
      <p:sp>
        <p:nvSpPr>
          <p:cNvPr id="46" name="テキスト ボックス 1"/>
          <p:cNvSpPr/>
          <p:nvPr/>
        </p:nvSpPr>
        <p:spPr>
          <a:xfrm>
            <a:off x="3913200" y="5680080"/>
            <a:ext cx="86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但し、段階的にリスクが変化する事に注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特に、燃料の有無で大きく異なる）</a:t>
            </a:r>
            <a:endParaRPr b="0" lang="en-US" sz="2400" spc="-1" strike="noStrike">
              <a:solidFill>
                <a:srgbClr val="000000"/>
              </a:solidFill>
              <a:latin typeface="Times New Roman"/>
            </a:endParaRPr>
          </a:p>
        </p:txBody>
      </p:sp>
      <p:sp>
        <p:nvSpPr>
          <p:cNvPr id="4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D036-46F4-4DA4-B8D8-20D379257AD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管理</a:t>
            </a:r>
            <a:endParaRPr b="0" lang="en-US" sz="4400" spc="-1" strike="noStrike">
              <a:solidFill>
                <a:srgbClr val="0000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状把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将来予測（経年劣化、増加、減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ザード耐性評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社会的ハザードの考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重要度分類・緊急度分類</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的視野</a:t>
            </a:r>
            <a:endParaRPr b="0" lang="en-US" sz="3200" spc="-1" strike="noStrike">
              <a:solidFill>
                <a:srgbClr val="000000"/>
              </a:solidFill>
              <a:latin typeface="Times New Roman"/>
            </a:endParaRPr>
          </a:p>
        </p:txBody>
      </p:sp>
      <p:sp>
        <p:nvSpPr>
          <p:cNvPr id="13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56C4C-B445-4897-8689-17DF291B8BD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549000"/>
            <a:ext cx="777240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源と形態</a:t>
            </a:r>
            <a:endParaRPr b="0" lang="en-US" sz="4400" spc="-1" strike="noStrike">
              <a:solidFill>
                <a:srgbClr val="000000"/>
              </a:solidFill>
              <a:latin typeface="Times New Roman"/>
            </a:endParaRPr>
          </a:p>
        </p:txBody>
      </p:sp>
      <p:sp>
        <p:nvSpPr>
          <p:cNvPr id="132" name=""/>
          <p:cNvSpPr txBox="1"/>
          <p:nvPr/>
        </p:nvSpPr>
        <p:spPr>
          <a:xfrm>
            <a:off x="685800" y="1557360"/>
            <a:ext cx="7772400" cy="4114800"/>
          </a:xfrm>
          <a:prstGeom prst="rect">
            <a:avLst/>
          </a:prstGeom>
          <a:noFill/>
          <a:ln w="0">
            <a:noFill/>
          </a:ln>
        </p:spPr>
        <p:txBody>
          <a:bodyPr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溶融燃料（固体・（液体・気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プール（固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水（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高濃度トレンチ、タービン建屋、低濃度タンク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がれき等廃棄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木材、コンクリートガラ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二次廃棄物（固体・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除染、フィルター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建屋・機器解体撤去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作業により大量に発生予定</a:t>
            </a:r>
            <a:endParaRPr b="0" lang="en-US" sz="2400" spc="-1" strike="noStrike">
              <a:solidFill>
                <a:srgbClr val="000000"/>
              </a:solidFill>
              <a:latin typeface="Times New Roman"/>
            </a:endParaRPr>
          </a:p>
        </p:txBody>
      </p:sp>
      <p:sp>
        <p:nvSpPr>
          <p:cNvPr id="13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39D7C-D762-4E93-A09A-FC09F759953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外部ハザード対策</a:t>
            </a:r>
            <a:endParaRPr b="0" lang="en-US" sz="4400" spc="-1" strike="noStrike">
              <a:solidFill>
                <a:srgbClr val="000000"/>
              </a:solidFill>
              <a:latin typeface="Times New Roman"/>
            </a:endParaRPr>
          </a:p>
        </p:txBody>
      </p:sp>
      <p:sp>
        <p:nvSpPr>
          <p:cNvPr id="135"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地震、津波、台風、竜巻など</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的関数が異なる事に注意</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崩壊炉心が非管理状態に戻らない事</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取出作業中の燃料（デブリ等含む）が安定</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マニュアルや内規を守る事ではない</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閉じ込める」を可能な限り担保する事</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物質の管理された排出</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モニタリングの充実と公表</a:t>
            </a:r>
            <a:endParaRPr b="0" lang="en-US" sz="2800" spc="-1" strike="noStrike">
              <a:solidFill>
                <a:srgbClr val="000000"/>
              </a:solidFill>
              <a:latin typeface="Times New Roman"/>
            </a:endParaRPr>
          </a:p>
        </p:txBody>
      </p:sp>
      <p:sp>
        <p:nvSpPr>
          <p:cNvPr id="13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70624-4CA4-4C40-BCC6-18122EF60B30}"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耐震性と自然現象</a:t>
            </a:r>
            <a:endParaRPr b="0" lang="en-US" sz="4400" spc="-1" strike="noStrike">
              <a:solidFill>
                <a:srgbClr val="000000"/>
              </a:solidFill>
              <a:latin typeface="Times New Roman"/>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目的関数は閉じ込め（放散させない）と作業安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例として地震</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健全</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4</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閉込</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超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y</a:t>
            </a:r>
            <a:r>
              <a:rPr b="0" lang="ja-JP" sz="2400" spc="-1" strike="noStrike">
                <a:solidFill>
                  <a:srgbClr val="000000"/>
                </a:solidFill>
                <a:latin typeface="Times New Roman"/>
              </a:rPr>
              <a:t>　閉込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テキスト ボックス 1"/>
          <p:cNvSpPr/>
          <p:nvPr/>
        </p:nvSpPr>
        <p:spPr>
          <a:xfrm>
            <a:off x="7435440" y="39448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0" name="テキスト ボックス 4"/>
          <p:cNvSpPr/>
          <p:nvPr/>
        </p:nvSpPr>
        <p:spPr>
          <a:xfrm>
            <a:off x="4764960" y="483696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1" name="テキスト ボックス 5"/>
          <p:cNvSpPr/>
          <p:nvPr/>
        </p:nvSpPr>
        <p:spPr>
          <a:xfrm>
            <a:off x="4698720" y="44067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2" name="直線コネクタ 3"/>
          <p:cNvSpPr/>
          <p:nvPr/>
        </p:nvSpPr>
        <p:spPr>
          <a:xfrm>
            <a:off x="2195640" y="4836960"/>
            <a:ext cx="3889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直線コネクタ 8"/>
          <p:cNvSpPr/>
          <p:nvPr/>
        </p:nvSpPr>
        <p:spPr>
          <a:xfrm>
            <a:off x="6156360" y="4406760"/>
            <a:ext cx="2448000" cy="30240"/>
          </a:xfrm>
          <a:prstGeom prst="line">
            <a:avLst/>
          </a:prstGeom>
          <a:ln w="1908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 name="テキスト ボックス 10"/>
          <p:cNvSpPr/>
          <p:nvPr/>
        </p:nvSpPr>
        <p:spPr>
          <a:xfrm>
            <a:off x="7473240" y="44798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5" name="テキスト ボックス 7"/>
          <p:cNvSpPr/>
          <p:nvPr/>
        </p:nvSpPr>
        <p:spPr>
          <a:xfrm>
            <a:off x="6667200" y="33987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事故炉廃止措置</a:t>
            </a:r>
            <a:endParaRPr b="0" lang="en-US" sz="2400" spc="-1" strike="noStrike">
              <a:solidFill>
                <a:srgbClr val="000000"/>
              </a:solidFill>
              <a:latin typeface="Times New Roman"/>
            </a:endParaRPr>
          </a:p>
        </p:txBody>
      </p:sp>
      <p:sp>
        <p:nvSpPr>
          <p:cNvPr id="146" name="テキスト ボックス 12"/>
          <p:cNvSpPr/>
          <p:nvPr/>
        </p:nvSpPr>
        <p:spPr>
          <a:xfrm>
            <a:off x="6244560" y="522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非放散）</a:t>
            </a:r>
            <a:endParaRPr b="0" lang="en-US" sz="2400" spc="-1" strike="noStrike">
              <a:solidFill>
                <a:srgbClr val="000000"/>
              </a:solidFill>
              <a:latin typeface="Times New Roman"/>
            </a:endParaRPr>
          </a:p>
        </p:txBody>
      </p:sp>
      <p:sp>
        <p:nvSpPr>
          <p:cNvPr id="147" name="テキスト ボックス 13"/>
          <p:cNvSpPr/>
          <p:nvPr/>
        </p:nvSpPr>
        <p:spPr>
          <a:xfrm>
            <a:off x="4066560" y="33987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　通常炉運転　</a:t>
            </a:r>
            <a:endParaRPr b="0" lang="en-US" sz="2400" spc="-1" strike="noStrike">
              <a:solidFill>
                <a:srgbClr val="000000"/>
              </a:solidFill>
              <a:latin typeface="Times New Roman"/>
            </a:endParaRPr>
          </a:p>
        </p:txBody>
      </p:sp>
      <p:sp>
        <p:nvSpPr>
          <p:cNvPr id="148" name="テキスト ボックス 11"/>
          <p:cNvSpPr/>
          <p:nvPr/>
        </p:nvSpPr>
        <p:spPr>
          <a:xfrm>
            <a:off x="2589120" y="6095880"/>
            <a:ext cx="42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影響と頻度を目的関数に合わせて考える事！！！</a:t>
            </a:r>
            <a:endParaRPr b="0" lang="en-US" sz="2400" spc="-1" strike="noStrike">
              <a:solidFill>
                <a:srgbClr val="000000"/>
              </a:solidFill>
              <a:latin typeface="Times New Roman"/>
            </a:endParaRPr>
          </a:p>
        </p:txBody>
      </p:sp>
      <p:sp>
        <p:nvSpPr>
          <p:cNvPr id="14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AF08-B51C-40AA-B866-39EECA620A5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30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現場が重要</a:t>
            </a:r>
            <a:endParaRPr b="0" lang="en-US" sz="4400" spc="-1" strike="noStrike">
              <a:solidFill>
                <a:srgbClr val="000000"/>
              </a:solidFill>
              <a:latin typeface="Times New Roman"/>
            </a:endParaRPr>
          </a:p>
        </p:txBody>
      </p:sp>
      <p:sp>
        <p:nvSpPr>
          <p:cNvPr id="1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原子炉と同様の管理では危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リスクのわずかな増大も許さない工事を行うと、結果的にリスクの大きな増大を招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中心とした総合的なリスク管理を実施する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５年、１０年と長期に掛かる廃炉を見越した総合的管理のできる人材をトップに置く事</a:t>
            </a:r>
            <a:endParaRPr b="0" lang="en-US" sz="3200" spc="-1" strike="noStrike">
              <a:solidFill>
                <a:srgbClr val="000000"/>
              </a:solidFill>
              <a:latin typeface="Times New Roman"/>
            </a:endParaRPr>
          </a:p>
        </p:txBody>
      </p:sp>
      <p:sp>
        <p:nvSpPr>
          <p:cNvPr id="15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4E4E7-303A-48ED-B3FC-E898BB9E755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規制の考え方</a:t>
            </a:r>
            <a:endParaRPr b="0" lang="en-US" sz="4400" spc="-1" strike="noStrike">
              <a:solidFill>
                <a:srgbClr val="000000"/>
              </a:solidFill>
              <a:latin typeface="Times New Roman"/>
            </a:endParaRPr>
          </a:p>
        </p:txBody>
      </p:sp>
      <p:sp>
        <p:nvSpPr>
          <p:cNvPr id="15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須</a:t>
            </a:r>
            <a:br>
              <a:rPr sz="2800"/>
            </a:br>
            <a:r>
              <a:rPr b="0" lang="ja-JP" sz="2800" spc="-1" strike="noStrike">
                <a:solidFill>
                  <a:srgbClr val="000000"/>
                </a:solidFill>
                <a:latin typeface="Times New Roman"/>
              </a:rPr>
              <a:t>硬直した規制はリスクを増大させ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総合的なリスクを下げる規制を実施すべき</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規制が事故を招く恐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バックフィットの考え方</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力発電所の定量的なリスク（放射性物質インベントリ、管理状態など）</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目的は閉じ込め性能の維持管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に応じた規制が重要</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79A96-F459-4E2D-9DD2-2F166A47A2D0}"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安倍首相オリンピック招致演説</a:t>
            </a:r>
            <a:endParaRPr b="0" lang="en-US" sz="4000" spc="-1" strike="noStrike">
              <a:solidFill>
                <a:srgbClr val="000000"/>
              </a:solidFill>
              <a:latin typeface="Times New Roman"/>
            </a:endParaRPr>
          </a:p>
        </p:txBody>
      </p:sp>
      <p:sp>
        <p:nvSpPr>
          <p:cNvPr id="157" name=""/>
          <p:cNvSpPr txBox="1"/>
          <p:nvPr/>
        </p:nvSpPr>
        <p:spPr>
          <a:xfrm>
            <a:off x="628560" y="1598400"/>
            <a:ext cx="7886880" cy="435132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福島についてご懸念をお持ちの方もいるかもしれません。</a:t>
            </a:r>
            <a:br>
              <a:rPr sz="2200"/>
            </a:br>
            <a:r>
              <a:rPr b="0" lang="ja-JP" sz="2200" spc="-1" strike="noStrike">
                <a:solidFill>
                  <a:srgbClr val="000000"/>
                </a:solidFill>
                <a:latin typeface="Times New Roman"/>
              </a:rPr>
              <a:t>ここで私が保証いたします。</a:t>
            </a:r>
            <a:br>
              <a:rPr sz="2200"/>
            </a:br>
            <a:r>
              <a:rPr b="1" lang="ja-JP" sz="2200" spc="-1" strike="noStrike" u="sng">
                <a:solidFill>
                  <a:srgbClr val="000000"/>
                </a:solidFill>
                <a:uFillTx/>
                <a:latin typeface="Times New Roman"/>
              </a:rPr>
              <a:t>状況はコントロールされています。</a:t>
            </a:r>
            <a:br>
              <a:rPr sz="2200"/>
            </a:br>
            <a:r>
              <a:rPr b="0" lang="ja-JP" sz="2200" spc="-1" strike="noStrike">
                <a:solidFill>
                  <a:srgbClr val="000000"/>
                </a:solidFill>
                <a:latin typeface="Times New Roman"/>
              </a:rPr>
              <a:t>そしてこれまでもこれからも東京への悪影響はありません。</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まず結論から申し上げますと、全く問題ありません。</a:t>
            </a:r>
            <a:br>
              <a:rPr sz="2200"/>
            </a:br>
            <a:r>
              <a:rPr b="0" lang="ja-JP" sz="2200" spc="-1" strike="noStrike">
                <a:solidFill>
                  <a:srgbClr val="000000"/>
                </a:solidFill>
                <a:latin typeface="Times New Roman"/>
              </a:rPr>
              <a:t>どうかあの、</a:t>
            </a:r>
            <a:r>
              <a:rPr b="1" lang="ja-JP" sz="2200" spc="-1" strike="noStrike" u="sng">
                <a:solidFill>
                  <a:srgbClr val="000000"/>
                </a:solidFill>
                <a:uFillTx/>
                <a:latin typeface="Times New Roman"/>
              </a:rPr>
              <a:t>ヘッドラインではなくて事実を見て頂きたい</a:t>
            </a:r>
            <a:r>
              <a:rPr b="0" lang="ja-JP" sz="2200" spc="-1" strike="noStrike">
                <a:solidFill>
                  <a:srgbClr val="000000"/>
                </a:solidFill>
                <a:latin typeface="Times New Roman"/>
              </a:rPr>
              <a:t>と思います。</a:t>
            </a:r>
            <a:br>
              <a:rPr sz="2200"/>
            </a:br>
            <a:r>
              <a:rPr b="0" lang="ja-JP" sz="2200" spc="-1" strike="noStrike">
                <a:solidFill>
                  <a:srgbClr val="000000"/>
                </a:solidFill>
                <a:latin typeface="Times New Roman"/>
              </a:rPr>
              <a:t>汚染水による影響は、福島第一原発の港湾内の</a:t>
            </a:r>
            <a:r>
              <a:rPr b="0" lang="en-US" sz="2200" spc="-1" strike="noStrike">
                <a:solidFill>
                  <a:srgbClr val="000000"/>
                </a:solidFill>
                <a:latin typeface="Times New Roman"/>
              </a:rPr>
              <a:t>0.3</a:t>
            </a:r>
            <a:r>
              <a:rPr b="0" lang="ja-JP" sz="2200" spc="-1" strike="noStrike">
                <a:solidFill>
                  <a:srgbClr val="000000"/>
                </a:solidFill>
                <a:latin typeface="Times New Roman"/>
              </a:rPr>
              <a:t>平方キロメートル範囲内の中で、完全にブロックされています。</a:t>
            </a:r>
            <a:br>
              <a:rPr sz="2200"/>
            </a:br>
            <a:r>
              <a:rPr b="0" lang="ja-JP"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58" name="テキスト ボックス 3"/>
          <p:cNvSpPr/>
          <p:nvPr/>
        </p:nvSpPr>
        <p:spPr>
          <a:xfrm>
            <a:off x="2487960" y="5157720"/>
            <a:ext cx="423468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新聞などの報道は間違っているという指摘</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物理的に制御できているという事実</a:t>
            </a:r>
            <a:endParaRPr b="0" lang="en-US" sz="2800" spc="-1" strike="noStrike">
              <a:solidFill>
                <a:srgbClr val="000000"/>
              </a:solidFill>
              <a:latin typeface="Times New Roman"/>
            </a:endParaRPr>
          </a:p>
        </p:txBody>
      </p:sp>
      <p:sp>
        <p:nvSpPr>
          <p:cNvPr id="15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5793-8CC1-4D4B-BA96-2195BE4A331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検討の方針案</a:t>
            </a:r>
            <a:endParaRPr b="0" lang="en-US" sz="4400" spc="-1" strike="noStrike">
              <a:solidFill>
                <a:srgbClr val="000000"/>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角度の付いたヘッドラインを正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コントロール、つまり、福島のリスク評価・リスク管理を技術的に分析す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20</a:t>
            </a:r>
            <a:r>
              <a:rPr b="0" lang="ja-JP" sz="3200" spc="-1" strike="noStrike">
                <a:solidFill>
                  <a:srgbClr val="000000"/>
                </a:solidFill>
                <a:latin typeface="Times New Roman"/>
              </a:rPr>
              <a:t>年よりもさらに長期的な視点に立った評価を行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学術団体としてリスク管理ができている事を正しく伝える</a:t>
            </a:r>
            <a:endParaRPr b="0" lang="en-US" sz="3200" spc="-1" strike="noStrike">
              <a:solidFill>
                <a:srgbClr val="000000"/>
              </a:solidFill>
              <a:latin typeface="Times New Roman"/>
            </a:endParaRPr>
          </a:p>
        </p:txBody>
      </p:sp>
      <p:sp>
        <p:nvSpPr>
          <p:cNvPr id="16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8DAC-7A7A-4B4F-8479-12CE2C5454C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5992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u="sng">
                <a:solidFill>
                  <a:srgbClr val="0070c0"/>
                </a:solidFill>
                <a:uFillTx/>
                <a:latin typeface="Times New Roman"/>
              </a:rPr>
              <a:t>原子力学会で実施すべき内容</a:t>
            </a:r>
            <a:endParaRPr b="0" lang="en-US" sz="3600" spc="-1" strike="noStrike">
              <a:solidFill>
                <a:srgbClr val="000000"/>
              </a:solidFill>
              <a:latin typeface="Times New Roman"/>
            </a:endParaRPr>
          </a:p>
        </p:txBody>
      </p:sp>
      <p:sp>
        <p:nvSpPr>
          <p:cNvPr id="164" name=""/>
          <p:cNvSpPr txBox="1"/>
          <p:nvPr/>
        </p:nvSpPr>
        <p:spPr>
          <a:xfrm>
            <a:off x="685440" y="1150920"/>
            <a:ext cx="8062920" cy="4114800"/>
          </a:xfrm>
          <a:prstGeom prst="rect">
            <a:avLst/>
          </a:prstGeom>
          <a:noFill/>
          <a:ln w="0">
            <a:noFill/>
          </a:ln>
        </p:spPr>
        <p:txBody>
          <a:bodyPr anchor="t">
            <a:normAutofit fontScale="76000"/>
          </a:bodyPr>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福島第一の廃止措置おけるリスク評価</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リスク源で、時間と共にどのように変化する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ハザードを考えた時に弱いところはどこな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風評リスクをどのように考える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総合的リスク管理手法</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総合的なリスクを低減するためにとるべきリスク</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管理できていて何が管理できていな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r>
              <a:rPr b="0" lang="ja-JP" sz="2400" spc="-1" strike="noStrike">
                <a:solidFill>
                  <a:srgbClr val="000000"/>
                </a:solidFill>
                <a:latin typeface="Times New Roman"/>
              </a:rPr>
              <a:t>年後を見越してどのように管理していけばよ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さらに超長期を考えれば、どのように管理すべき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学術界として事象進展を明確化すべきではないか</a:t>
            </a:r>
            <a:endParaRPr b="0" lang="en-US" sz="26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本当に概略はわかっているのか</a:t>
            </a:r>
            <a:endParaRPr b="0" lang="en-US" sz="22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MI</a:t>
            </a:r>
            <a:r>
              <a:rPr b="0" lang="ja-JP" sz="2200" spc="-1" strike="noStrike">
                <a:solidFill>
                  <a:srgbClr val="000000"/>
                </a:solidFill>
                <a:latin typeface="Times New Roman"/>
              </a:rPr>
              <a:t>の様に、改善につなげるべきではないか</a:t>
            </a:r>
            <a:endParaRPr b="0" lang="en-US" sz="2200" spc="-1" strike="noStrike">
              <a:solidFill>
                <a:srgbClr val="000000"/>
              </a:solidFill>
              <a:latin typeface="Times New Roman"/>
            </a:endParaRPr>
          </a:p>
        </p:txBody>
      </p:sp>
      <p:sp>
        <p:nvSpPr>
          <p:cNvPr id="16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51C64-BA28-4E08-AD63-4B321393E80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通常廃止措置中におけるリスク</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ある場合は、運転中と同じリスク</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搬出された後は、リスクが格段に小さくな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止める、冷やすが不要とな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の確保</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を確実に達成した上で、放射性物質を含む物質（廃棄物）を廃棄または管理下におくこと</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止措置の進展に伴い、リスクはさらに低減化</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放射性物質インベントリの減少によるリスク低減</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全管理もリスクに応じて行う</a:t>
            </a:r>
            <a:endParaRPr b="0" lang="en-US" sz="2400" spc="-1" strike="noStrike">
              <a:solidFill>
                <a:srgbClr val="000000"/>
              </a:solidFill>
              <a:latin typeface="Times New Roman"/>
            </a:endParaRPr>
          </a:p>
        </p:txBody>
      </p:sp>
      <p:sp>
        <p:nvSpPr>
          <p:cNvPr id="5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63ED-64CE-40F1-8D23-D11AEAF8CDB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6840"/>
            <a:ext cx="77724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通常炉廃止措置について</a:t>
            </a:r>
            <a:endParaRPr b="0" lang="en-US" sz="3600" spc="-1" strike="noStrike">
              <a:solidFill>
                <a:srgbClr val="000000"/>
              </a:solidFill>
              <a:latin typeface="Times New Roman"/>
            </a:endParaRPr>
          </a:p>
        </p:txBody>
      </p:sp>
      <p:sp>
        <p:nvSpPr>
          <p:cNvPr id="52" name=""/>
          <p:cNvSpPr txBox="1"/>
          <p:nvPr/>
        </p:nvSpPr>
        <p:spPr>
          <a:xfrm>
            <a:off x="685800" y="1131840"/>
            <a:ext cx="7918560" cy="562608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技術的には大きな課題は無い</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ＪＰＤＲ</a:t>
            </a:r>
            <a:r>
              <a:rPr b="0" lang="en-US" sz="2200" spc="-1" strike="noStrike">
                <a:solidFill>
                  <a:srgbClr val="000000"/>
                </a:solidFill>
                <a:latin typeface="Times New Roman"/>
              </a:rPr>
              <a:t>(BWR)</a:t>
            </a:r>
            <a:r>
              <a:rPr b="0" lang="ja-JP" sz="2200" spc="-1" strike="noStrike">
                <a:solidFill>
                  <a:srgbClr val="000000"/>
                </a:solidFill>
                <a:latin typeface="Times New Roman"/>
              </a:rPr>
              <a:t>の廃止措置</a:t>
            </a:r>
            <a:r>
              <a:rPr b="0" lang="en-US" sz="2200" spc="-1" strike="noStrike">
                <a:solidFill>
                  <a:srgbClr val="000000"/>
                </a:solidFill>
                <a:latin typeface="Times New Roman"/>
              </a:rPr>
              <a:t>(1981-1995)</a:t>
            </a:r>
            <a:r>
              <a:rPr b="0" lang="ja-JP" sz="2200" spc="-1" strike="noStrike">
                <a:solidFill>
                  <a:srgbClr val="000000"/>
                </a:solidFill>
                <a:latin typeface="Times New Roman"/>
              </a:rPr>
              <a:t>実績</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使用済燃料の中間貯蔵を推進</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リスクの低減、経営の健全化</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１０年後のリプレース需要を見込む事</a:t>
            </a:r>
            <a:endParaRPr b="0" lang="en-US" sz="26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日本のエネルギー環境を考えれば、新設（リプレース）は必須</a:t>
            </a:r>
            <a:endParaRPr b="0" lang="en-US" sz="19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ウクライナも独立直後全原発停止。その後、チェルノブイリも再稼働、代替炉新設</a:t>
            </a:r>
            <a:endParaRPr b="0" lang="en-US" sz="19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即時解体が望ましい</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長期密閉管理は次善策（廃棄物処分との関連）</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低レベル廃棄物処分場が必須</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a:t>
            </a:r>
            <a:r>
              <a:rPr b="0" lang="ja-JP" sz="2200" spc="-1" strike="noStrike">
                <a:solidFill>
                  <a:srgbClr val="000000"/>
                </a:solidFill>
                <a:latin typeface="Times New Roman"/>
              </a:rPr>
              <a:t>年程度の長期的視野で処分場建設（福島を除く事）</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廃棄物物量を見越した政策が必要</a:t>
            </a:r>
            <a:endParaRPr b="0" lang="en-US" sz="2200" spc="-1" strike="noStrike">
              <a:solidFill>
                <a:srgbClr val="000000"/>
              </a:solidFill>
              <a:latin typeface="Times New Roman"/>
            </a:endParaRPr>
          </a:p>
        </p:txBody>
      </p:sp>
      <p:sp>
        <p:nvSpPr>
          <p:cNvPr id="5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607E-FC61-4CCB-95CD-F424DCD67D5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燃料損傷事故を起こした炉の廃止措置</a:t>
            </a:r>
            <a:endParaRPr b="0" lang="en-US" sz="3600" spc="-1" strike="noStrike">
              <a:solidFill>
                <a:srgbClr val="000000"/>
              </a:solidFill>
              <a:latin typeface="Times New Roman"/>
            </a:endParaRPr>
          </a:p>
        </p:txBody>
      </p:sp>
      <p:sp>
        <p:nvSpPr>
          <p:cNvPr id="55" name="PlaceHolder 2"/>
          <p:cNvSpPr>
            <a:spLocks noGrp="1"/>
          </p:cNvSpPr>
          <p:nvPr>
            <p:ph/>
          </p:nvPr>
        </p:nvSpPr>
        <p:spPr>
          <a:xfrm>
            <a:off x="628560" y="1522440"/>
            <a:ext cx="7886880" cy="4727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ＴＭＩ‐２</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取り出しに１０年以上</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は燃料が取り出され、格納容器や建屋による密封管理状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十分低減された状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チェルノブイリ</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は空冷</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わゆる石棺による閉じ込め</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新ドーム（閉じ込め・解体作業のため）建設開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ある程度低減された状態</a:t>
            </a:r>
            <a:endParaRPr b="0" lang="en-US" sz="2400" spc="-1" strike="noStrike">
              <a:solidFill>
                <a:srgbClr val="000000"/>
              </a:solidFill>
              <a:latin typeface="Times New Roman"/>
            </a:endParaRPr>
          </a:p>
        </p:txBody>
      </p:sp>
      <p:sp>
        <p:nvSpPr>
          <p:cNvPr id="5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AEE6-77CB-47D9-87FB-1520DC3C0DB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テキスト ボックス 2"/>
          <p:cNvSpPr/>
          <p:nvPr/>
        </p:nvSpPr>
        <p:spPr>
          <a:xfrm>
            <a:off x="5343120" y="119160"/>
            <a:ext cx="245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廃炉・汚染水対策チーム会合 第</a:t>
            </a:r>
            <a:r>
              <a:rPr b="1" lang="en-US" sz="1200" spc="-1" strike="noStrike">
                <a:solidFill>
                  <a:srgbClr val="000000"/>
                </a:solidFill>
                <a:latin typeface="Times New Roman"/>
              </a:rPr>
              <a:t>13</a:t>
            </a:r>
            <a:r>
              <a:rPr b="1" lang="ja-JP" sz="1200" spc="-1" strike="noStrike">
                <a:solidFill>
                  <a:srgbClr val="000000"/>
                </a:solidFill>
                <a:latin typeface="Times New Roman"/>
              </a:rPr>
              <a:t>回事務局会議</a:t>
            </a:r>
            <a:r>
              <a:rPr b="0" lang="en-US" sz="1200" spc="-1" strike="noStrike">
                <a:solidFill>
                  <a:srgbClr val="000000"/>
                </a:solidFill>
                <a:latin typeface="Times New Roman"/>
              </a:rPr>
              <a:t>,</a:t>
            </a:r>
            <a:r>
              <a:rPr b="0" lang="ja-JP" sz="1200" spc="-1" strike="noStrike">
                <a:solidFill>
                  <a:srgbClr val="000000"/>
                </a:solidFill>
                <a:latin typeface="Times New Roman"/>
              </a:rPr>
              <a:t>　</a:t>
            </a:r>
            <a:r>
              <a:rPr b="0" lang="en-US" sz="1200" spc="-1" strike="noStrike">
                <a:solidFill>
                  <a:srgbClr val="000000"/>
                </a:solidFill>
                <a:latin typeface="Times New Roman"/>
              </a:rPr>
              <a:t>2014/12/25</a:t>
            </a:r>
            <a:r>
              <a:rPr b="0" lang="ja-JP" sz="1200" spc="-1" strike="noStrike">
                <a:solidFill>
                  <a:srgbClr val="000000"/>
                </a:solidFill>
                <a:latin typeface="Times New Roman"/>
              </a:rPr>
              <a:t>資料</a:t>
            </a:r>
            <a:endParaRPr b="0" lang="en-US" sz="1200" spc="-1" strike="noStrike">
              <a:solidFill>
                <a:srgbClr val="000000"/>
              </a:solidFill>
              <a:latin typeface="Times New Roman"/>
            </a:endParaRPr>
          </a:p>
        </p:txBody>
      </p:sp>
      <p:sp>
        <p:nvSpPr>
          <p:cNvPr id="58" name="正方形/長方形 9"/>
          <p:cNvSpPr/>
          <p:nvPr/>
        </p:nvSpPr>
        <p:spPr>
          <a:xfrm>
            <a:off x="3666960" y="6464160"/>
            <a:ext cx="528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rPr>
              <a:t>http://www.tepco.co.jp/nu/fukushima-np/roadmap/images/d141</a:t>
            </a:r>
            <a:r>
              <a:rPr b="0" lang="en-US" sz="1400" spc="-1" strike="noStrike">
                <a:solidFill>
                  <a:srgbClr val="000000"/>
                </a:solidFill>
                <a:latin typeface="Arial Narrow"/>
              </a:rPr>
              <a:t>32</a:t>
            </a:r>
            <a:r>
              <a:rPr b="0" lang="ja-JP" sz="1400" spc="-1" strike="noStrike">
                <a:solidFill>
                  <a:srgbClr val="000000"/>
                </a:solidFill>
                <a:latin typeface="Arial Narrow"/>
              </a:rPr>
              <a:t>2</a:t>
            </a:r>
            <a:r>
              <a:rPr b="0" lang="en-US" sz="1400" spc="-1" strike="noStrike">
                <a:solidFill>
                  <a:srgbClr val="000000"/>
                </a:solidFill>
                <a:latin typeface="Arial Narrow"/>
              </a:rPr>
              <a:t>5</a:t>
            </a:r>
            <a:r>
              <a:rPr b="0" lang="ja-JP" sz="1400" spc="-1" strike="noStrike">
                <a:solidFill>
                  <a:srgbClr val="000000"/>
                </a:solidFill>
                <a:latin typeface="Arial Narrow"/>
              </a:rPr>
              <a:t>_05-j.pdf</a:t>
            </a:r>
            <a:endParaRPr b="0" lang="en-US" sz="1400" spc="-1" strike="noStrike">
              <a:solidFill>
                <a:srgbClr val="000000"/>
              </a:solidFill>
              <a:latin typeface="Times New Roman"/>
            </a:endParaRPr>
          </a:p>
        </p:txBody>
      </p:sp>
      <p:pic>
        <p:nvPicPr>
          <p:cNvPr id="59" name="図 2" descr=""/>
          <p:cNvPicPr/>
          <p:nvPr/>
        </p:nvPicPr>
        <p:blipFill>
          <a:blip r:embed="rId1"/>
          <a:stretch/>
        </p:blipFill>
        <p:spPr>
          <a:xfrm>
            <a:off x="1116000" y="500040"/>
            <a:ext cx="2744640" cy="3065400"/>
          </a:xfrm>
          <a:prstGeom prst="rect">
            <a:avLst/>
          </a:prstGeom>
          <a:ln w="0">
            <a:noFill/>
          </a:ln>
        </p:spPr>
      </p:pic>
      <p:pic>
        <p:nvPicPr>
          <p:cNvPr id="60" name="図 3" descr=""/>
          <p:cNvPicPr/>
          <p:nvPr/>
        </p:nvPicPr>
        <p:blipFill>
          <a:blip r:embed="rId2"/>
          <a:stretch/>
        </p:blipFill>
        <p:spPr>
          <a:xfrm>
            <a:off x="4932360" y="500040"/>
            <a:ext cx="2281320" cy="2982960"/>
          </a:xfrm>
          <a:prstGeom prst="rect">
            <a:avLst/>
          </a:prstGeom>
          <a:ln w="0">
            <a:noFill/>
          </a:ln>
        </p:spPr>
      </p:pic>
      <p:pic>
        <p:nvPicPr>
          <p:cNvPr id="61" name="図 4" descr=""/>
          <p:cNvPicPr/>
          <p:nvPr/>
        </p:nvPicPr>
        <p:blipFill>
          <a:blip r:embed="rId3"/>
          <a:stretch/>
        </p:blipFill>
        <p:spPr>
          <a:xfrm>
            <a:off x="1187280" y="3619440"/>
            <a:ext cx="2795760" cy="2879640"/>
          </a:xfrm>
          <a:prstGeom prst="rect">
            <a:avLst/>
          </a:prstGeom>
          <a:ln w="0">
            <a:noFill/>
          </a:ln>
        </p:spPr>
      </p:pic>
      <p:pic>
        <p:nvPicPr>
          <p:cNvPr id="62" name="図 5" descr=""/>
          <p:cNvPicPr/>
          <p:nvPr/>
        </p:nvPicPr>
        <p:blipFill>
          <a:blip r:embed="rId4"/>
          <a:stretch/>
        </p:blipFill>
        <p:spPr>
          <a:xfrm>
            <a:off x="5148360" y="3586320"/>
            <a:ext cx="3125520" cy="2882880"/>
          </a:xfrm>
          <a:prstGeom prst="rect">
            <a:avLst/>
          </a:prstGeom>
          <a:ln w="0">
            <a:noFill/>
          </a:ln>
        </p:spPr>
      </p:pic>
      <p:sp>
        <p:nvSpPr>
          <p:cNvPr id="6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C54A-D7D6-40CF-80E2-A664F398569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7628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福島第一原子力発電所の現状</a:t>
            </a:r>
            <a:endParaRPr b="0" lang="en-US" sz="4000" spc="-1" strike="noStrike">
              <a:solidFill>
                <a:srgbClr val="000000"/>
              </a:solidFill>
              <a:latin typeface="Times New Roman"/>
            </a:endParaRPr>
          </a:p>
        </p:txBody>
      </p:sp>
      <p:sp>
        <p:nvSpPr>
          <p:cNvPr id="65" name="PlaceHolder 2"/>
          <p:cNvSpPr>
            <a:spLocks noGrp="1"/>
          </p:cNvSpPr>
          <p:nvPr>
            <p:ph/>
          </p:nvPr>
        </p:nvSpPr>
        <p:spPr>
          <a:xfrm>
            <a:off x="685440" y="1600200"/>
            <a:ext cx="8094600" cy="4648320"/>
          </a:xfrm>
          <a:prstGeom prst="rect">
            <a:avLst/>
          </a:prstGeom>
          <a:noFill/>
          <a:ln w="0">
            <a:noFill/>
          </a:ln>
        </p:spPr>
        <p:txBody>
          <a:bodyPr anchor="t">
            <a:normAutofit/>
          </a:bodyPr>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燃料の状況</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止める、冷やす、水素</a:t>
            </a:r>
            <a:r>
              <a:rPr b="0" lang="ja-JP" sz="2400" spc="-1" strike="noStrike">
                <a:solidFill>
                  <a:srgbClr val="000000"/>
                </a:solidFill>
                <a:latin typeface="Times New Roman"/>
              </a:rPr>
              <a:t>を管理</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ガスサンプリングによる核分裂監視</a:t>
            </a:r>
            <a:r>
              <a:rPr b="0" lang="en-US" sz="2000" spc="-1" strike="noStrike">
                <a:solidFill>
                  <a:srgbClr val="000000"/>
                </a:solidFill>
                <a:latin typeface="Times New Roman"/>
              </a:rPr>
              <a:t>(</a:t>
            </a:r>
            <a:r>
              <a:rPr b="0" lang="ja-JP" sz="2000" spc="-1" strike="noStrike">
                <a:solidFill>
                  <a:srgbClr val="000000"/>
                </a:solidFill>
                <a:latin typeface="Times New Roman"/>
              </a:rPr>
              <a:t>必要に応じホウ酸水注入</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循環注水により崩壊熱除去と温度計による監視</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窒素注入により水素濃度低減と濃度監視</a:t>
            </a:r>
            <a:endParaRPr b="0" lang="en-US" sz="2000" spc="-1" strike="noStrike">
              <a:solidFill>
                <a:srgbClr val="000000"/>
              </a:solidFill>
              <a:latin typeface="Times New Roman"/>
            </a:endParaRPr>
          </a:p>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閉じ込めの状況</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号機：建屋カバーのみ</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２号機：原子炉建屋</a:t>
            </a:r>
            <a:r>
              <a:rPr b="0" lang="ja-JP" sz="2000" spc="-1" strike="noStrike">
                <a:solidFill>
                  <a:srgbClr val="000000"/>
                </a:solidFill>
                <a:latin typeface="Times New Roman"/>
              </a:rPr>
              <a:t>（ブローアウトパネルは閉止）</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号機：損傷した原子炉建屋のがれき撤去中</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４号機：</a:t>
            </a:r>
            <a:r>
              <a:rPr b="0" lang="ja-JP" sz="2800" spc="-1" strike="noStrike">
                <a:solidFill>
                  <a:srgbClr val="000000"/>
                </a:solidFill>
                <a:latin typeface="Times New Roman"/>
              </a:rPr>
              <a:t>使用済燃料排出済</a:t>
            </a:r>
            <a:r>
              <a:rPr b="0" lang="en-US" sz="2800" spc="-1" strike="noStrike">
                <a:solidFill>
                  <a:srgbClr val="000000"/>
                </a:solidFill>
                <a:latin typeface="Times New Roman"/>
              </a:rPr>
              <a:t>/</a:t>
            </a:r>
            <a:r>
              <a:rPr b="0" lang="ja-JP" sz="2000" spc="-1" strike="noStrike">
                <a:solidFill>
                  <a:srgbClr val="000000"/>
                </a:solidFill>
                <a:latin typeface="Times New Roman"/>
              </a:rPr>
              <a:t>通常炉廃止措置に近い状況</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ほぼ封止</a:t>
            </a:r>
            <a:r>
              <a:rPr b="0" lang="ja-JP" sz="2000" spc="-1" strike="noStrike">
                <a:solidFill>
                  <a:srgbClr val="000000"/>
                </a:solidFill>
                <a:latin typeface="Times New Roman"/>
              </a:rPr>
              <a:t>（モニタリング監視継続）</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固体廃棄物：敷地内仮保管</a:t>
            </a:r>
            <a:r>
              <a:rPr b="0" lang="ja-JP" sz="2000" spc="-1" strike="noStrike">
                <a:solidFill>
                  <a:srgbClr val="000000"/>
                </a:solidFill>
                <a:latin typeface="Times New Roman"/>
              </a:rPr>
              <a:t>（がれき、樹木、汚染水フィルタ含）</a:t>
            </a:r>
            <a:endParaRPr b="0" lang="en-US" sz="2000" spc="-1" strike="noStrike">
              <a:solidFill>
                <a:srgbClr val="000000"/>
              </a:solidFill>
              <a:latin typeface="Times New Roman"/>
            </a:endParaRPr>
          </a:p>
        </p:txBody>
      </p:sp>
      <p:sp>
        <p:nvSpPr>
          <p:cNvPr id="6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26FB4-8F18-4B4E-903D-F7B6C9614DD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通常の廃止措置との違い</a:t>
            </a:r>
            <a:endParaRPr b="0" lang="en-US" sz="4400" spc="-1" strike="noStrike">
              <a:solidFill>
                <a:srgbClr val="000000"/>
              </a:solidFill>
              <a:latin typeface="Times New Roman"/>
            </a:endParaRPr>
          </a:p>
        </p:txBody>
      </p:sp>
      <p:sp>
        <p:nvSpPr>
          <p:cNvPr id="68"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との戦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高放射線環境下の作業</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既設設備がほとんど利用できな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CFC7-EA08-4F47-8EF6-2EC02D00F002}"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福島第一廃止措置における</a:t>
            </a:r>
            <a:br>
              <a:rPr sz="3600"/>
            </a:br>
            <a:r>
              <a:rPr b="0" lang="ja-JP" sz="3600" spc="-1" strike="noStrike" u="sng">
                <a:solidFill>
                  <a:srgbClr val="0070c0"/>
                </a:solidFill>
                <a:uFillTx/>
                <a:latin typeface="Times New Roman"/>
              </a:rPr>
              <a:t>リスク管理の特徴</a:t>
            </a:r>
            <a:endParaRPr b="0" lang="en-US" sz="3600" spc="-1" strike="noStrike">
              <a:solidFill>
                <a:srgbClr val="000000"/>
              </a:solidFill>
              <a:latin typeface="Times New Roman"/>
            </a:endParaRPr>
          </a:p>
        </p:txBody>
      </p:sp>
      <p:sp>
        <p:nvSpPr>
          <p:cNvPr id="71" name=""/>
          <p:cNvSpPr txBox="1"/>
          <p:nvPr/>
        </p:nvSpPr>
        <p:spPr>
          <a:xfrm>
            <a:off x="685800" y="1981080"/>
            <a:ext cx="80517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の原子炉と同様の廃止措置管理では危険</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例えば、リスクのわずかな増大も許さない工事を行うと、結果的にリスクの大きな増大を招く。また、時間的な先送りがリスク増大につなが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現場を中心とし、時間・空間・対象（放射性物質）を考慮した、</a:t>
            </a:r>
            <a:r>
              <a:rPr b="0" lang="ja-JP" sz="2800" spc="-1" strike="noStrike">
                <a:solidFill>
                  <a:srgbClr val="ff0000"/>
                </a:solidFill>
                <a:latin typeface="Times New Roman"/>
              </a:rPr>
              <a:t>俯瞰的なリスク管理</a:t>
            </a:r>
            <a:r>
              <a:rPr b="0" lang="ja-JP" sz="2800" spc="-1" strike="noStrike">
                <a:solidFill>
                  <a:srgbClr val="000000"/>
                </a:solidFill>
                <a:latin typeface="Times New Roman"/>
              </a:rPr>
              <a:t>を実施する必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数多くの廃止措置作業が相互に関連し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１０年と長期に掛かる廃止措置を見越し、俯瞰的な管理のできる人材を戦略的に養成し、現場を初めとする廃止措置に投入していく事</a:t>
            </a:r>
            <a:endParaRPr b="0" lang="en-US" sz="2800" spc="-1" strike="noStrike">
              <a:solidFill>
                <a:srgbClr val="000000"/>
              </a:solidFill>
              <a:latin typeface="Times New Roman"/>
            </a:endParaRPr>
          </a:p>
        </p:txBody>
      </p:sp>
      <p:sp>
        <p:nvSpPr>
          <p:cNvPr id="72"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81000-5A8C-420E-86AC-D15DFA42FBE4}"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5T02:21:37Z</dcterms:created>
  <dc:creator>ok</dc:creator>
  <dc:description/>
  <dc:language>en-US</dc:language>
  <cp:lastModifiedBy>sarai</cp:lastModifiedBy>
  <cp:lastPrinted>2015-01-06T01:15:54Z</cp:lastPrinted>
  <dcterms:modified xsi:type="dcterms:W3CDTF">2015-03-26T06:08:43Z</dcterms:modified>
  <cp:revision>96</cp:revision>
  <dc:subject/>
  <dc:title>PowerPoint Presentation</dc:title>
</cp:coreProperties>
</file>